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3BDC-DD1B-43C7-A241-CA7D442EB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1DB7-EB66-432D-AC88-16A4EEE7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3AF5-1E23-4BCF-90EC-353E2F1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C777-97A0-4D2D-9595-93AF9BDB5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FC8F-3042-4AD2-9223-55934482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4954-4322-4847-BE72-3B68A5EF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C071-7572-4B73-A2B1-74C46578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2106-6248-4369-817E-F6B2931E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7C98-8DDF-49EE-8A43-9EC7D300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C743-3507-4040-A70F-D7664A87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5D9F-C281-4853-A8EF-41DE4EC4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10B0-35BF-43C7-BF4B-33CF05E8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-36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ED1-82F6-4C0D-8F01-811FCAC03AE4}" type="slidenum">
              <a:rPr b="0" lang="ar-SA" sz="12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38320" y="0"/>
            <a:ext cx="2036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مهارات 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 rot="21595200">
            <a:off x="835200" y="6552720"/>
            <a:ext cx="792288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ISLAMTODAY.net</a:t>
            </a:r>
            <a:endParaRPr b="1" lang="en-US" sz="48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dawahmemo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21520"/>
            <a:ext cx="5867280" cy="82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تجد مثل هذه الدورات لدى مكتبة المفكرة الدعوية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  <a:hlinkClick r:id="rId3"/>
              </a:rPr>
              <a:t>www.dawahmemo.com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23C7-9DCD-486D-8C86-1208B4E860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8200" y="1295280"/>
            <a:ext cx="9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مواجهة احتمالات الطوارئ و التغلب عليها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981080"/>
            <a:ext cx="701676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لكي تواجه المشاكل غير المتوقعة يجب أن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يكون جدولك الزمني قابلا للتعدي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ن تكون مستعدا نفسيا لمواجهة الطوار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5638680"/>
            <a:ext cx="52578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تجري الرياح بما لا تشتهي السف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114800"/>
            <a:ext cx="7543800" cy="155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Times New Roman"/>
              </a:rPr>
              <a:t>عندما تعترض طريقك مشكلة ابعد نفسك عن بناء المواقف اعتمادا على أفكار و مواقف مسبقة ،وتعرف على حقائق الموقف ورتبها ثم اتخذ القرار الذي يظهر لك أنه أكثر عدلاً وتمسّك ب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E302-C7E4-450D-B97A-7E921A620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2120" y="228600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  <a:cs typeface="Times New Roman"/>
              </a:rPr>
              <a:t>قدرتك على حفظ اتزانك و السيطرة على مشاعرك و ردود أفعالك عند المصائب و المشكلات و في حالات الطوارئ ووسط الاضطرابات هي العلامات الحقيقية للقياد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  <a:cs typeface="Times New Roman"/>
              </a:rPr>
              <a:t>أعمالنا تحددنا بقدر ما نحدّد نحن أعمالنا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70640" y="836640"/>
            <a:ext cx="159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</a:rPr>
              <a:t>إضاء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48E5-BE3A-4DCD-BE42-036F02FE9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73480" y="162576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تخاذ التدابير التقويمية :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286000"/>
            <a:ext cx="722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إذا وجدت أن تطورك ليس جيدا كما كنت تطمح يجب عليك أن تعالج الأمر بسرعة فائ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410080"/>
            <a:ext cx="523692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ا تظن أن تجاهل المشاكل سوف يحل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CE4F-FDEB-478C-B6AA-916FAF3821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435480" y="101592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محافظة على السيطرة 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981080"/>
            <a:ext cx="723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لا تجعل المتغيرات و الآمال تتحكم ب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لا تبدأ بطموحات كبيرة لا تستطيع تحقيقها حتى ل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تصاب بخيبة أ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معرفة لكيفية سير الأمور بداية لسيطرتك على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مجرا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181480"/>
            <a:ext cx="723888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بدون معرفة أين أنت ؟ و كيف وضعك؟  لن تحافظ على السيط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4F69-1131-452E-B35E-A96429943A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5280" y="155736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” إن أبيتم إلا التذبذب و الاضطراب، و التردد بين الدعوات الحائرة و المناهج الفاشلة، فإن كتيبة الله ستسير غير عابئة بقلة و لا بكثرة، و ما النصر إلا من عند الله“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3366"/>
                </a:solidFill>
                <a:latin typeface="Times New Roman"/>
              </a:rPr>
              <a:t>                                    الإمام حسن البنا رحمه ال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3366"/>
                </a:solidFill>
                <a:latin typeface="Times New Roman"/>
              </a:rPr>
              <a:t>                                        وأسكنه فسيح جنا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620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</a:rPr>
              <a:t>إضاء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281C-A97B-4AFA-B4A3-5F3ABBE21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397040" y="685800"/>
            <a:ext cx="487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معايير النجا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741200" y="1231920"/>
            <a:ext cx="3639960" cy="1739880"/>
          </a:xfrm>
          <a:custGeom>
            <a:avLst/>
            <a:gdLst/>
            <a:ahLst/>
            <a:rect l="l" t="t" r="r" b="b"/>
            <a:pathLst>
              <a:path w="2460" h="808">
                <a:moveTo>
                  <a:pt x="2460" y="0"/>
                </a:moveTo>
                <a:lnTo>
                  <a:pt x="2460" y="247"/>
                </a:lnTo>
                <a:lnTo>
                  <a:pt x="2452" y="264"/>
                </a:lnTo>
                <a:lnTo>
                  <a:pt x="2460" y="264"/>
                </a:lnTo>
                <a:lnTo>
                  <a:pt x="0" y="264"/>
                </a:lnTo>
                <a:lnTo>
                  <a:pt x="1" y="808"/>
                </a:lnTo>
                <a:lnTo>
                  <a:pt x="241" y="808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209680"/>
            <a:ext cx="747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”كيف تعرف أنك حققت ما تصبو إليه ، ما هو الأسلوب العلمي و الذي من خلاله تستطيع أن تقول إنك نجحت في تحقيق أهداف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في نهاية هذا الفصل ستتعلم معايير النجاح كيف تضعها و تتعامل معها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0880" y="4648320"/>
            <a:ext cx="19051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98144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162920" y="4648320"/>
            <a:ext cx="16747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2666880" y="4648320"/>
            <a:ext cx="190368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1A45-9E97-42F5-B562-CF168F3237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572760" y="1905120"/>
            <a:ext cx="10324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ين أريد أن أكون ؟ و ما هي طموحاتي المستقبلي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يف سأبلغ تلك المرحلة ؟ ما هي الوسائل المطلوب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كيف سأعرف أنني حققت ما أصبو إليه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39800" y="692280"/>
            <a:ext cx="312984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cc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2D0B-AA80-49B9-A39B-08C4C20D7A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79560" y="549360"/>
            <a:ext cx="65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قياس النج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كيف أعرف أنني بلغت غايتي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133720"/>
            <a:ext cx="789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تعرف لأي مدى قد حققت نشاطاتك الأساس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ما إذا كانت خطتك تتوافق مع هدفك النهائي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81360" y="3581280"/>
            <a:ext cx="692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لقياس النجاح لا بد من 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  نقد و تقييم أدائك في 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  تقييم جهو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B706-5F14-48EC-A6EA-7522FD8C49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1219320"/>
            <a:ext cx="8302680" cy="69192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نقد و تقييم أدائك في التنفيذ: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عليك أن تقيس ما حصل فعلا و تقارنه مع ما كان مخططا له.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*  العملية تتطلب قياس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    النوعية أو مقدار تجانس العمل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إذا كان العمل مساويا لم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هو مخطط له أم ل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   الكمية أو مقدار العمل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إذا كان أكثر أو أقل مما هو مخط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   الجدول الزمني للتنفيذ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فترة إنجاز المهم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الكلفة الحقيقية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مقابل الكلفة المتوقع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F392-A01A-4280-8FB9-0E74E5DC25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2209680"/>
            <a:ext cx="7924680" cy="4848840"/>
          </a:xfrm>
          <a:prstGeom prst="rect">
            <a:avLst/>
          </a:prstGeom>
          <a:solidFill>
            <a:srgbClr val="c0c0c0"/>
          </a:solidFill>
          <a:ln cap="sq"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تقييمك لخطتك يساعدك على اتّخاذ القرار للخطوة المقب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الجهد الذي تبذله لا يساوي دائما النتائج التي تحصل علي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إذا حصلت على القليل مقابل جهد هائل فعليك بمراجعة أمورك لتقرر أي جزء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 من الخطة يجب تعديله بشكل جذر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بعض النتائج ربما تأثرت بعوامل خارج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على العك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جهد قليل أدى لنتائج هائلة ربما لأنك قمت بالأمور المناسبة في الوق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  المناس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العوامل الخارجية قد ساهمت في تحسين النتائ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3920" y="1143000"/>
            <a:ext cx="332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تقييم الجه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E8A5-50B3-4D75-AC6C-66BA2E9951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87760" y="1143000"/>
            <a:ext cx="7226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ff"/>
                </a:solidFill>
                <a:latin typeface="Times New Roman"/>
              </a:rPr>
              <a:t>مهارات 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ff"/>
                </a:solidFill>
                <a:latin typeface="Times New Roman"/>
              </a:rPr>
              <a:t>التخطيط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2133720" cy="283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يو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ثال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2F85-A08D-435C-B226-6422CECA2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-936360" y="1295280"/>
            <a:ext cx="1092780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ن يكون مستمرا : خلال كل مرحلة و فترة زمن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ن يكون شاملا : لجميع الأهداف و لجميع معايير النجا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ن يكون له أثر إيجابي في تحقيق النتائ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7640" y="137160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التقويم المناسب يعن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B916-A035-4BEF-AA17-F924E0F605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0" y="3048120"/>
            <a:ext cx="1905120" cy="1600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ين نحن الآ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.W.O.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048120"/>
            <a:ext cx="1904760" cy="1600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ين نري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وصول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5257800"/>
            <a:ext cx="4496040" cy="685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كيف نصل إلى ما نريد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828800"/>
            <a:ext cx="3429000" cy="1066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عملية اتخاذ 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تحديد اتجاه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39" idx="0"/>
          </p:cNvCxnSpPr>
          <p:nvPr/>
        </p:nvCxnSpPr>
        <p:spPr>
          <a:xfrm flipV="1" rot="10800000">
            <a:off x="1256760" y="2361240"/>
            <a:ext cx="1715040" cy="686520"/>
          </a:xfrm>
          <a:prstGeom prst="bentConnector2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3" name=""/>
          <p:cNvCxnSpPr>
            <a:stCxn id="239" idx="3"/>
            <a:endCxn id="238" idx="1"/>
          </p:cNvCxnSpPr>
          <p:nvPr/>
        </p:nvCxnSpPr>
        <p:spPr>
          <a:xfrm>
            <a:off x="2209680" y="3847680"/>
            <a:ext cx="4649040" cy="1080"/>
          </a:xfrm>
          <a:prstGeom prst="bentConnector2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4" name=""/>
          <p:cNvCxnSpPr>
            <a:stCxn id="238" idx="0"/>
            <a:endCxn id="241" idx="3"/>
          </p:cNvCxnSpPr>
          <p:nvPr/>
        </p:nvCxnSpPr>
        <p:spPr>
          <a:xfrm flipV="1" rot="16200000">
            <a:off x="6762240" y="1999440"/>
            <a:ext cx="686520" cy="1410480"/>
          </a:xfrm>
          <a:prstGeom prst="bentConnector2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5" name=""/>
          <p:cNvCxnSpPr>
            <a:stCxn id="238" idx="2"/>
            <a:endCxn id="240" idx="3"/>
          </p:cNvCxnSpPr>
          <p:nvPr/>
        </p:nvCxnSpPr>
        <p:spPr>
          <a:xfrm rot="5400000">
            <a:off x="6780960" y="4572000"/>
            <a:ext cx="953280" cy="1105560"/>
          </a:xfrm>
          <a:prstGeom prst="bentConnector2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6" name=""/>
          <p:cNvCxnSpPr>
            <a:stCxn id="240" idx="1"/>
            <a:endCxn id="239" idx="2"/>
          </p:cNvCxnSpPr>
          <p:nvPr/>
        </p:nvCxnSpPr>
        <p:spPr>
          <a:xfrm rot="10800000">
            <a:off x="1256760" y="4647600"/>
            <a:ext cx="952920" cy="953280"/>
          </a:xfrm>
          <a:prstGeom prst="bentConnector2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47" name=""/>
          <p:cNvSpPr/>
          <p:nvPr/>
        </p:nvSpPr>
        <p:spPr>
          <a:xfrm>
            <a:off x="-242280" y="838080"/>
            <a:ext cx="96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في كل مرحلة من مراحل التخطيط و بشكل دو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C276-92B1-4987-92A6-E6636AF6A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-572760" y="1905120"/>
            <a:ext cx="10324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ين أريد أن أكون ؟ و ما هي طموحاتي المستقبلي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يف سأبلغ تلك المرحلة ؟ ما هي الوسائل المطلوب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يف سأعرف أنني حققت ما أصبو إليه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1320" y="838080"/>
            <a:ext cx="312984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cc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96FF-AF60-4D77-9C40-C346741028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38080" y="1981080"/>
            <a:ext cx="74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المعيار الأول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أن يعكس الأولويات في حياة الإنسا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بحيث يكون التخطيط انعكاسا حقيقيا لأولويات الإنسا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ثلا : شخص ليس من أولوياته أن يكون صاحب مهنة معينة. فلا يجعل خطته تذهب به في ذلك الاتجاه غير المرغوب في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67960" y="981000"/>
            <a:ext cx="581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معايير التخطيط السل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58FB-C3EE-4B5B-9C52-7BFBE97B67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1125360"/>
            <a:ext cx="73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المعيار الثاني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أن يكون متوازن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لا يتضخم جانب في التخطيط على الجوانب الأخر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عدم التركيز على هدف و إهمال الأهداف الأخر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ثال : ألا تجعل الوقت المخصص للترفيه يغلب على حياتك على حساب الوقت المخصص للعلاقات الاجتماعية و صلة الرح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ثال : لا تجعل وقت العمل يطغى على وقت العبادة كالصلا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A260-80F7-4184-AE04-A0ECB2A646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1371600"/>
            <a:ext cx="8248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</a:rPr>
              <a:t>المعيار الثالث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أن يكون واق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بأن تكون الخطة سهلة التطبيق محددة الأنشط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تأخذ في الحسبان الوقت المتوافر و قدرات و إمكانات الشخ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CD27-A4F5-44BF-BC60-1CC0083A7A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57400" y="990720"/>
            <a:ext cx="5499000" cy="94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طوات السبع لتخطيط الأهداف و تحقيق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76520"/>
            <a:ext cx="8381880" cy="5214600"/>
          </a:xfrm>
          <a:prstGeom prst="rect">
            <a:avLst/>
          </a:prstGeom>
          <a:solidFill>
            <a:srgbClr val="cce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خطوة الأولى:   كتابة الهدف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سأعمل -إن شاء الله- على امتلاك سكن خاص خلال السنوات الثلاث القادمة بدءا من تاريخ اليو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خطوة الثانية:   التفكير بهذا الهدف و تحليل طبيع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دد السكن هل هو فيلا أم شقة؟ هل تريد أن تشتري أم تستأجر؟ هل تريده نقدا أم عن طريق البنك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خطوة الثالثة:    تحديد مجموعة من الأهداف المرحلية التي تحقق الهدف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 الأول : توفير ما يمكن من سيول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 الثاني : شراء الأر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 الثالث : عمل المخطط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 الرابع : الشروع بالبنا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E057-AF6C-4C0D-BD13-6AE2D78DC4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981000"/>
            <a:ext cx="8227800" cy="558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خطوة الرابعة:  تحديد مجموعة من الأهداف الإجرائية لتحقيق الأهداف المرحل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مثلا لتوفير ما يمكن من سيولة . ما الوسائل أو الأمور الإجرائية التي يمكن أن تفعلها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أولا : توفير جزء من الدخل الشهري لعام كامل أو عامين مثل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ثانيا : بيع قطعة الأرض التي ورثتها عن الوالد رحمه الل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ثالثا : أخذ سلفة من بيت التمويل مثل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الخطوة الخامسة: و ضع الأهداف الإجرائية في برنامج زمني توضح فيه الأعمال بمواعيد تنفيذ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</a:rPr>
              <a:t>حدد الأهداف الإجرائية لكل الأهداف المرحلية حدد الزمن اللازم لكل مرحلة.   حدد الزمن اللازم لتوفير السيولة و لشراء الأرض و للتخطيط العمراني و حدد متى ستبدأ التنفيذ و متى تتوقع الانتهاء منه؟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6963-8395-4B78-9E61-596674F5CD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52388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الخطوة السادسة : وضع خطط عمل بديلة توصل إلى الهدف العام في حالة عدم تحقيق بعض الأهداف المرحلية أو الإجرائ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كارتفاع أسعار الأراضي أو قرار حكومي يحدد قيمة القسط . حدد البدائ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الخطوة السابعة:  التنفي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شراء الأرض و بداية التوفير في حساب خاص مثلا و مراجعة الخطة بين الفينة و الأخر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911E-1A17-4BF3-BA8A-2CD19CE400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28520" y="260280"/>
            <a:ext cx="416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808560" y="1268280"/>
            <a:ext cx="11409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صبح أهدافك النهائية واضحة ل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صبح لديك ثقة بأن عملك اليومي هاد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صبح قادرا على التحليل ب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صبح منهجيا في تفكير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صبح قادرا على الاستفادة من نقاط القوة في عملك أو مهنت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قلل من نقاط الضع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</a:rPr>
              <a:t>   ستنجز</a:t>
            </a:r>
            <a:r>
              <a:rPr b="0" lang="ar-SA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الأمور</a:t>
            </a:r>
            <a:r>
              <a:rPr b="0" lang="ar-SA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261D5-B66F-4886-AA40-D170B10DB2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920960"/>
            <a:ext cx="78487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أين أريد أن أكون ؟ و ما هي طموحاتي المستقبلي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كيف سأبلغ تلك المرحلة ؟ ما هي الوسائل المطلوب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   كيف سأعرف أنني حققت ما أصبو إليه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4520" y="457200"/>
            <a:ext cx="312984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cc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8623-B461-4FC3-B5D3-E4F1CDC24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4400" y="4724280"/>
            <a:ext cx="7178760" cy="2043720"/>
          </a:xfrm>
          <a:prstGeom prst="rect">
            <a:avLst/>
          </a:prstGeom>
          <a:solidFill>
            <a:srgbClr val="000099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هداف واضحة محددة + تخطيط سليم + تنفيذ بوسائل مناسبة + تقويم و مراجعة = تحقيق النتائج بإذن ال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3900600" cy="3581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352680" y="3429000"/>
            <a:ext cx="215280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معادلة النج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3691-66B6-432F-A769-52876305A0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915400" cy="6026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66680" y="1371600"/>
            <a:ext cx="556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كم سأكون سعيدا عندما أتلقي منك رسالة بري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أعرف فيها رأيك في هذه الدورة أو ملاحظات لتحسينها أو أخطاء لتلافيها في المرات القا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المهندس : عبدالله العتيبي     الكوي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البريد الإلكتروني :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dullah@q8su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ملاحظة: أرجو عدم وضع عنواني البريدي في قوائم بريدية أيا كان نوع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5029200"/>
            <a:ext cx="5486400" cy="100872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يمنع استخدام هذه المادة لأغراض تجارية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و الاقتباس منها بدون ذكر اسم معد المادة أو مصدرها و هو موقع الإسلام اليو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91960" y="9144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سالة من معد الم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2881-C6F5-4779-A821-9A26BC9F93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028240" y="62064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993366"/>
                </a:solidFill>
                <a:uFillTx/>
                <a:latin typeface="Times New Roman"/>
              </a:rPr>
              <a:t>قائمة بالمراجع الأ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62864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طيط الإدا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كيت كينا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س الإدارة الناجح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كيت كين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ليل الشخصي للسعادة و النجاح           د.إبراهيم القعي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الأولويات الأهم أول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ستيفن ر . كوف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 . روجر ميري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بيكا . مير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طلق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محمد أحمد الراش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وائ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محمد أحمد الراش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ناعة النجا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د. طارق السويدا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 . فيصل عمر باشراح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كيف تكتب خطة استراتيجية 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د. طارق السويدا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. محمد أكرم العدلون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موذج الإسلامي في الإدار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د . فهد صالح السلط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ياة تخطي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د . ريك كيرتشن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. ريك برينكم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وضوية في حياتن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عادل بن محمد العبد الع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سوعة روائع الحكمة والأقوال الخالد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كتور روحي البعلبك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A0A8-962A-4D4A-80C6-734769E226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43280" y="3124080"/>
            <a:ext cx="462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3300"/>
                </a:solidFill>
                <a:latin typeface="Times New Roman"/>
              </a:rPr>
              <a:t>شكرا  على الاطل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2361960" cy="3722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4190760" y="6324480"/>
            <a:ext cx="41907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419640" y="4724280"/>
            <a:ext cx="1904760" cy="762120"/>
            <a:chOff x="3419640" y="4724280"/>
            <a:chExt cx="1904760" cy="762120"/>
          </a:xfrm>
        </p:grpSpPr>
        <p:sp>
          <p:nvSpPr>
            <p:cNvPr id="273" name=""/>
            <p:cNvSpPr/>
            <p:nvPr/>
          </p:nvSpPr>
          <p:spPr>
            <a:xfrm>
              <a:off x="4329360" y="4928760"/>
              <a:ext cx="299160" cy="278280"/>
            </a:xfrm>
            <a:custGeom>
              <a:avLst/>
              <a:gdLst/>
              <a:ahLst/>
              <a:rect l="l" t="t" r="r" b="b"/>
              <a:pathLst>
                <a:path w="309" h="401">
                  <a:moveTo>
                    <a:pt x="206" y="15"/>
                  </a:moveTo>
                  <a:cubicBezTo>
                    <a:pt x="152" y="1"/>
                    <a:pt x="109" y="0"/>
                    <a:pt x="68" y="41"/>
                  </a:cubicBezTo>
                  <a:cubicBezTo>
                    <a:pt x="71" y="67"/>
                    <a:pt x="69" y="94"/>
                    <a:pt x="77" y="118"/>
                  </a:cubicBezTo>
                  <a:cubicBezTo>
                    <a:pt x="88" y="151"/>
                    <a:pt x="144" y="163"/>
                    <a:pt x="171" y="169"/>
                  </a:cubicBezTo>
                  <a:cubicBezTo>
                    <a:pt x="214" y="166"/>
                    <a:pt x="257" y="155"/>
                    <a:pt x="300" y="161"/>
                  </a:cubicBezTo>
                  <a:cubicBezTo>
                    <a:pt x="309" y="162"/>
                    <a:pt x="297" y="179"/>
                    <a:pt x="291" y="186"/>
                  </a:cubicBezTo>
                  <a:cubicBezTo>
                    <a:pt x="279" y="200"/>
                    <a:pt x="263" y="210"/>
                    <a:pt x="248" y="221"/>
                  </a:cubicBezTo>
                  <a:cubicBezTo>
                    <a:pt x="222" y="241"/>
                    <a:pt x="177" y="279"/>
                    <a:pt x="146" y="289"/>
                  </a:cubicBezTo>
                  <a:cubicBezTo>
                    <a:pt x="114" y="319"/>
                    <a:pt x="89" y="341"/>
                    <a:pt x="51" y="366"/>
                  </a:cubicBezTo>
                  <a:cubicBezTo>
                    <a:pt x="43" y="372"/>
                    <a:pt x="34" y="377"/>
                    <a:pt x="26" y="383"/>
                  </a:cubicBezTo>
                  <a:cubicBezTo>
                    <a:pt x="17" y="389"/>
                    <a:pt x="0" y="401"/>
                    <a:pt x="0" y="401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43520" y="4976280"/>
              <a:ext cx="252720" cy="299880"/>
            </a:xfrm>
            <a:custGeom>
              <a:avLst/>
              <a:gdLst/>
              <a:ahLst/>
              <a:rect l="l" t="t" r="r" b="b"/>
              <a:pathLst>
                <a:path w="309" h="401">
                  <a:moveTo>
                    <a:pt x="206" y="15"/>
                  </a:moveTo>
                  <a:cubicBezTo>
                    <a:pt x="152" y="1"/>
                    <a:pt x="109" y="0"/>
                    <a:pt x="68" y="41"/>
                  </a:cubicBezTo>
                  <a:cubicBezTo>
                    <a:pt x="71" y="67"/>
                    <a:pt x="69" y="94"/>
                    <a:pt x="77" y="118"/>
                  </a:cubicBezTo>
                  <a:cubicBezTo>
                    <a:pt x="88" y="151"/>
                    <a:pt x="144" y="163"/>
                    <a:pt x="171" y="169"/>
                  </a:cubicBezTo>
                  <a:cubicBezTo>
                    <a:pt x="214" y="166"/>
                    <a:pt x="257" y="155"/>
                    <a:pt x="300" y="161"/>
                  </a:cubicBezTo>
                  <a:cubicBezTo>
                    <a:pt x="309" y="162"/>
                    <a:pt x="297" y="179"/>
                    <a:pt x="291" y="186"/>
                  </a:cubicBezTo>
                  <a:cubicBezTo>
                    <a:pt x="279" y="200"/>
                    <a:pt x="263" y="210"/>
                    <a:pt x="248" y="221"/>
                  </a:cubicBezTo>
                  <a:cubicBezTo>
                    <a:pt x="222" y="241"/>
                    <a:pt x="177" y="279"/>
                    <a:pt x="146" y="289"/>
                  </a:cubicBezTo>
                  <a:cubicBezTo>
                    <a:pt x="114" y="319"/>
                    <a:pt x="89" y="341"/>
                    <a:pt x="51" y="366"/>
                  </a:cubicBezTo>
                  <a:cubicBezTo>
                    <a:pt x="43" y="372"/>
                    <a:pt x="34" y="377"/>
                    <a:pt x="26" y="383"/>
                  </a:cubicBezTo>
                  <a:cubicBezTo>
                    <a:pt x="17" y="389"/>
                    <a:pt x="0" y="401"/>
                    <a:pt x="0" y="401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87880" y="5117760"/>
              <a:ext cx="190800" cy="142920"/>
            </a:xfrm>
            <a:custGeom>
              <a:avLst/>
              <a:gdLst/>
              <a:ahLst/>
              <a:rect l="l" t="t" r="r" b="b"/>
              <a:pathLst>
                <a:path w="197" h="206">
                  <a:moveTo>
                    <a:pt x="197" y="0"/>
                  </a:moveTo>
                  <a:cubicBezTo>
                    <a:pt x="160" y="51"/>
                    <a:pt x="113" y="93"/>
                    <a:pt x="69" y="137"/>
                  </a:cubicBezTo>
                  <a:cubicBezTo>
                    <a:pt x="1" y="205"/>
                    <a:pt x="88" y="94"/>
                    <a:pt x="17" y="180"/>
                  </a:cubicBezTo>
                  <a:cubicBezTo>
                    <a:pt x="10" y="188"/>
                    <a:pt x="0" y="206"/>
                    <a:pt x="0" y="206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29640" y="5109480"/>
              <a:ext cx="190800" cy="142920"/>
            </a:xfrm>
            <a:custGeom>
              <a:avLst/>
              <a:gdLst/>
              <a:ahLst/>
              <a:rect l="l" t="t" r="r" b="b"/>
              <a:pathLst>
                <a:path w="197" h="206">
                  <a:moveTo>
                    <a:pt x="197" y="0"/>
                  </a:moveTo>
                  <a:cubicBezTo>
                    <a:pt x="160" y="51"/>
                    <a:pt x="113" y="93"/>
                    <a:pt x="69" y="137"/>
                  </a:cubicBezTo>
                  <a:cubicBezTo>
                    <a:pt x="1" y="205"/>
                    <a:pt x="88" y="94"/>
                    <a:pt x="17" y="180"/>
                  </a:cubicBezTo>
                  <a:cubicBezTo>
                    <a:pt x="10" y="188"/>
                    <a:pt x="0" y="206"/>
                    <a:pt x="0" y="206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89960" y="5142600"/>
              <a:ext cx="190800" cy="142920"/>
            </a:xfrm>
            <a:custGeom>
              <a:avLst/>
              <a:gdLst/>
              <a:ahLst/>
              <a:rect l="l" t="t" r="r" b="b"/>
              <a:pathLst>
                <a:path w="197" h="206">
                  <a:moveTo>
                    <a:pt x="197" y="0"/>
                  </a:moveTo>
                  <a:cubicBezTo>
                    <a:pt x="160" y="51"/>
                    <a:pt x="113" y="93"/>
                    <a:pt x="69" y="137"/>
                  </a:cubicBezTo>
                  <a:cubicBezTo>
                    <a:pt x="1" y="205"/>
                    <a:pt x="88" y="94"/>
                    <a:pt x="17" y="180"/>
                  </a:cubicBezTo>
                  <a:cubicBezTo>
                    <a:pt x="10" y="188"/>
                    <a:pt x="0" y="206"/>
                    <a:pt x="0" y="206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9640" y="4724280"/>
              <a:ext cx="1904760" cy="762120"/>
            </a:xfrm>
            <a:custGeom>
              <a:avLst/>
              <a:gdLst/>
              <a:ahLst/>
              <a:rect l="l" t="t" r="r" b="b"/>
              <a:pathLst>
                <a:path w="1966" h="1098">
                  <a:moveTo>
                    <a:pt x="682" y="713"/>
                  </a:moveTo>
                  <a:cubicBezTo>
                    <a:pt x="654" y="722"/>
                    <a:pt x="633" y="737"/>
                    <a:pt x="605" y="747"/>
                  </a:cubicBezTo>
                  <a:cubicBezTo>
                    <a:pt x="556" y="794"/>
                    <a:pt x="504" y="811"/>
                    <a:pt x="442" y="833"/>
                  </a:cubicBezTo>
                  <a:cubicBezTo>
                    <a:pt x="396" y="799"/>
                    <a:pt x="387" y="775"/>
                    <a:pt x="373" y="721"/>
                  </a:cubicBezTo>
                  <a:cubicBezTo>
                    <a:pt x="376" y="681"/>
                    <a:pt x="371" y="640"/>
                    <a:pt x="382" y="601"/>
                  </a:cubicBezTo>
                  <a:cubicBezTo>
                    <a:pt x="409" y="506"/>
                    <a:pt x="528" y="477"/>
                    <a:pt x="605" y="447"/>
                  </a:cubicBezTo>
                  <a:cubicBezTo>
                    <a:pt x="635" y="401"/>
                    <a:pt x="689" y="384"/>
                    <a:pt x="733" y="353"/>
                  </a:cubicBezTo>
                  <a:cubicBezTo>
                    <a:pt x="778" y="321"/>
                    <a:pt x="807" y="279"/>
                    <a:pt x="845" y="241"/>
                  </a:cubicBezTo>
                  <a:cubicBezTo>
                    <a:pt x="872" y="157"/>
                    <a:pt x="875" y="53"/>
                    <a:pt x="776" y="27"/>
                  </a:cubicBezTo>
                  <a:cubicBezTo>
                    <a:pt x="725" y="30"/>
                    <a:pt x="658" y="0"/>
                    <a:pt x="622" y="36"/>
                  </a:cubicBezTo>
                  <a:cubicBezTo>
                    <a:pt x="592" y="66"/>
                    <a:pt x="632" y="122"/>
                    <a:pt x="639" y="164"/>
                  </a:cubicBezTo>
                  <a:cubicBezTo>
                    <a:pt x="645" y="199"/>
                    <a:pt x="715" y="273"/>
                    <a:pt x="742" y="293"/>
                  </a:cubicBezTo>
                  <a:cubicBezTo>
                    <a:pt x="768" y="344"/>
                    <a:pt x="814" y="375"/>
                    <a:pt x="853" y="413"/>
                  </a:cubicBezTo>
                  <a:cubicBezTo>
                    <a:pt x="941" y="499"/>
                    <a:pt x="824" y="397"/>
                    <a:pt x="896" y="481"/>
                  </a:cubicBezTo>
                  <a:cubicBezTo>
                    <a:pt x="913" y="501"/>
                    <a:pt x="937" y="514"/>
                    <a:pt x="956" y="533"/>
                  </a:cubicBezTo>
                  <a:cubicBezTo>
                    <a:pt x="977" y="591"/>
                    <a:pt x="1025" y="636"/>
                    <a:pt x="1059" y="687"/>
                  </a:cubicBezTo>
                  <a:cubicBezTo>
                    <a:pt x="1065" y="696"/>
                    <a:pt x="1070" y="704"/>
                    <a:pt x="1076" y="713"/>
                  </a:cubicBezTo>
                  <a:cubicBezTo>
                    <a:pt x="1082" y="721"/>
                    <a:pt x="1087" y="730"/>
                    <a:pt x="1093" y="738"/>
                  </a:cubicBezTo>
                  <a:cubicBezTo>
                    <a:pt x="1099" y="747"/>
                    <a:pt x="1110" y="764"/>
                    <a:pt x="1110" y="764"/>
                  </a:cubicBezTo>
                  <a:cubicBezTo>
                    <a:pt x="1005" y="873"/>
                    <a:pt x="818" y="912"/>
                    <a:pt x="673" y="927"/>
                  </a:cubicBezTo>
                  <a:cubicBezTo>
                    <a:pt x="555" y="973"/>
                    <a:pt x="438" y="1006"/>
                    <a:pt x="313" y="1021"/>
                  </a:cubicBezTo>
                  <a:cubicBezTo>
                    <a:pt x="282" y="1030"/>
                    <a:pt x="251" y="1041"/>
                    <a:pt x="219" y="1047"/>
                  </a:cubicBezTo>
                  <a:cubicBezTo>
                    <a:pt x="191" y="1053"/>
                    <a:pt x="161" y="1050"/>
                    <a:pt x="133" y="1056"/>
                  </a:cubicBezTo>
                  <a:cubicBezTo>
                    <a:pt x="118" y="1059"/>
                    <a:pt x="105" y="1069"/>
                    <a:pt x="90" y="1073"/>
                  </a:cubicBezTo>
                  <a:cubicBezTo>
                    <a:pt x="76" y="1077"/>
                    <a:pt x="61" y="1078"/>
                    <a:pt x="47" y="1081"/>
                  </a:cubicBezTo>
                  <a:cubicBezTo>
                    <a:pt x="36" y="1087"/>
                    <a:pt x="0" y="1098"/>
                    <a:pt x="13" y="1098"/>
                  </a:cubicBezTo>
                  <a:cubicBezTo>
                    <a:pt x="121" y="1098"/>
                    <a:pt x="463" y="989"/>
                    <a:pt x="562" y="961"/>
                  </a:cubicBezTo>
                  <a:cubicBezTo>
                    <a:pt x="784" y="899"/>
                    <a:pt x="1008" y="852"/>
                    <a:pt x="1230" y="790"/>
                  </a:cubicBezTo>
                  <a:cubicBezTo>
                    <a:pt x="1500" y="715"/>
                    <a:pt x="1294" y="756"/>
                    <a:pt x="1487" y="721"/>
                  </a:cubicBezTo>
                  <a:cubicBezTo>
                    <a:pt x="1585" y="674"/>
                    <a:pt x="1966" y="545"/>
                    <a:pt x="1582" y="687"/>
                  </a:cubicBezTo>
                  <a:cubicBezTo>
                    <a:pt x="1415" y="749"/>
                    <a:pt x="1245" y="801"/>
                    <a:pt x="1076" y="858"/>
                  </a:cubicBezTo>
                  <a:cubicBezTo>
                    <a:pt x="1007" y="881"/>
                    <a:pt x="942" y="917"/>
                    <a:pt x="870" y="927"/>
                  </a:cubicBezTo>
                  <a:cubicBezTo>
                    <a:pt x="406" y="991"/>
                    <a:pt x="827" y="924"/>
                    <a:pt x="416" y="1013"/>
                  </a:cubicBezTo>
                  <a:cubicBezTo>
                    <a:pt x="379" y="1021"/>
                    <a:pt x="342" y="1024"/>
                    <a:pt x="305" y="1030"/>
                  </a:cubicBezTo>
                  <a:cubicBezTo>
                    <a:pt x="293" y="1032"/>
                    <a:pt x="282" y="1035"/>
                    <a:pt x="270" y="1038"/>
                  </a:cubicBezTo>
                  <a:cubicBezTo>
                    <a:pt x="261" y="1040"/>
                    <a:pt x="236" y="1047"/>
                    <a:pt x="245" y="1047"/>
                  </a:cubicBezTo>
                  <a:cubicBezTo>
                    <a:pt x="412" y="1047"/>
                    <a:pt x="576" y="1003"/>
                    <a:pt x="742" y="987"/>
                  </a:cubicBezTo>
                  <a:cubicBezTo>
                    <a:pt x="907" y="971"/>
                    <a:pt x="1074" y="967"/>
                    <a:pt x="1239" y="953"/>
                  </a:cubicBezTo>
                  <a:cubicBezTo>
                    <a:pt x="1697" y="915"/>
                    <a:pt x="1447" y="918"/>
                    <a:pt x="1659" y="91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-35640" y="914400"/>
            <a:ext cx="801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يا صاح هذا الركب قد سار مسرعا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و نحن قعود ما الذي أنت صان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ترضى بأن تبقى المخلف بعده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صريع الأماني و الغرام يصار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2AB0-8AC9-4BC2-A98C-5E3B1DB262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H="1">
            <a:off x="3059280" y="1197000"/>
            <a:ext cx="5867280" cy="762120"/>
          </a:xfrm>
          <a:custGeom>
            <a:avLst/>
            <a:gdLst/>
            <a:ahLst/>
            <a:rect l="l" t="t" r="r" b="b"/>
            <a:pathLst>
              <a:path w="2460" h="808">
                <a:moveTo>
                  <a:pt x="2460" y="0"/>
                </a:moveTo>
                <a:lnTo>
                  <a:pt x="2460" y="247"/>
                </a:lnTo>
                <a:lnTo>
                  <a:pt x="2452" y="264"/>
                </a:lnTo>
                <a:lnTo>
                  <a:pt x="2460" y="264"/>
                </a:lnTo>
                <a:lnTo>
                  <a:pt x="0" y="264"/>
                </a:lnTo>
                <a:lnTo>
                  <a:pt x="1" y="808"/>
                </a:lnTo>
                <a:lnTo>
                  <a:pt x="241" y="808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4648320"/>
            <a:ext cx="19051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98144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162920" y="4648320"/>
            <a:ext cx="16747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666880" y="4648320"/>
            <a:ext cx="190368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250920" y="1700280"/>
            <a:ext cx="805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” في هذا الفصل سنلقي الضوء بشكل أكبر على خطوات التنفيذ ، سنغطي موضوع تنفيذ الخطة و عملية المراقبة و التنظيم و كيفية مواجهة احتمالات الطوارئ و وضع البدائل و غيرها من الموضوعات المتصلة بمراحل التنفي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مع نهاية هذا الفصل تعرف كيف تعمل تصميما لخطة التنفيذ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23560" y="549360"/>
            <a:ext cx="264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التنفي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27A7-3960-47B7-A61A-E8DE29D8A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84080" y="40464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 خطة 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791640" y="1197000"/>
            <a:ext cx="100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ضع خطة عمل مفصلة و مستقلة لكل نشاط تقوم ب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844640"/>
            <a:ext cx="664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الأهداف الإجرائ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تحديد البداية و النهاية التقريبية لكل 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موعد نهائي تقريبي للخ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ربط أجزاء الجدول الزم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تقدير التكاليف لكل نشاط على حد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التكلفة الإجمالية للتنفي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الأولويات و الترتيب ( ستنفذ تباعا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كتابة الخ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5581800"/>
            <a:ext cx="495792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خطة التنفيذ وثيقة عمل و ضرو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BF38-69BA-41F9-992B-38FD5A8C27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81720" y="54936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تنفيذ الع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مراقبة النشاطات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المواظبة على معرفة ما يحصل كل يوم بيومه لتعرف ما تم إنجازه و م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 لم يت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وضع بدائل عند احتمال حدوث الطوارئ إذا اقتضى الأمر لإجراء بع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التغيي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التصرف بسرعة عند حدوث أي خلل ربما لا يكون متوافقا 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المخط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   تحديث المخطط بشكل دائ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638680"/>
            <a:ext cx="550224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راقبة العمل هو القسم الأهم من المخط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1960" y="1447920"/>
            <a:ext cx="70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باشر نشاطاتك الرئيسة بكل بساط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47C9-CA06-4596-BFED-6F17E52B56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143000"/>
            <a:ext cx="8153280" cy="60955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</a:rPr>
              <a:t>تنظيم النشاطات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خطة السنوية و المفكرة اليومية هما الطريقتان الأكثر فاع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cc99"/>
                </a:solidFill>
                <a:latin typeface="Times New Roman"/>
              </a:rPr>
              <a:t>الخطة السنوية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: تحتوي النشاطات الأساسية التي تبين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المهمات المختلفة و مدة تنفيذها و مواعيد انتهائ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cc99"/>
                </a:solidFill>
                <a:latin typeface="Times New Roman"/>
              </a:rPr>
              <a:t>المفكرة اليومية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تحتوي على أعمالك بشكل يومي أ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أ سبوعي موضحة المهمة و تاريخ إنجازها و من سيقوم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   بذلك و ما يرتبط بها من أمو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5562720"/>
            <a:ext cx="35100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نظام الأسهل هو الأنج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AFF0-9985-4471-ACA1-F96D47245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04560" y="1206360"/>
            <a:ext cx="8534520" cy="4584960"/>
            <a:chOff x="304560" y="1206360"/>
            <a:chExt cx="8534520" cy="4584960"/>
          </a:xfrm>
        </p:grpSpPr>
        <p:sp>
          <p:nvSpPr>
            <p:cNvPr id="68" name=""/>
            <p:cNvSpPr/>
            <p:nvPr/>
          </p:nvSpPr>
          <p:spPr>
            <a:xfrm flipH="1">
              <a:off x="8467560" y="5335560"/>
              <a:ext cx="371520" cy="45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883560" y="5335560"/>
              <a:ext cx="158400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  <a:cs typeface="Traditional Arabic"/>
                </a:rPr>
                <a:t>الانتهاء من البنا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51400" y="5335560"/>
              <a:ext cx="63216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625360" y="5335560"/>
              <a:ext cx="6253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998960" y="533556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292640" y="5335560"/>
              <a:ext cx="7063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590280" y="5335560"/>
              <a:ext cx="70164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63880" y="533556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336760" y="533556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634400" y="5335560"/>
              <a:ext cx="70164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04200" y="5335560"/>
              <a:ext cx="133020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4200" y="4879800"/>
              <a:ext cx="133020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4200" y="3470400"/>
              <a:ext cx="133020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r" rtl="1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الميزانيــة المتاحـــة للبنــاء لا تتجــــاوز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ألــــــف ريـا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يتم تسليمها علــــى شكل دفعـات حسـب الاتفا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04200" y="2741760"/>
              <a:ext cx="133020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r" rtl="1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عن طريــــــق مكتب هندســي  على ألا يتجاوز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آلاف ريا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04200" y="2013120"/>
              <a:ext cx="133020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 rtl="1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ألا تتجاوز قيمة الأرض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</a:rPr>
                <a:t> ألف ريا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04200" y="1206360"/>
              <a:ext cx="1330200" cy="806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ملاحظات عا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251400" y="1541520"/>
              <a:ext cx="63216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أو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625360" y="1541520"/>
              <a:ext cx="62532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ثان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998960" y="1541520"/>
              <a:ext cx="62712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ثال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292640" y="1541520"/>
              <a:ext cx="70632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راب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292640" y="4879800"/>
              <a:ext cx="7063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292640" y="3470400"/>
              <a:ext cx="70632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292640" y="2741760"/>
              <a:ext cx="7063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92640" y="2013120"/>
              <a:ext cx="7063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291920" y="1206360"/>
              <a:ext cx="2590920" cy="335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سنة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1423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مثلا أو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998960" y="487980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998960" y="3470400"/>
              <a:ext cx="62712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998960" y="274176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998960" y="201312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625360" y="4879800"/>
              <a:ext cx="6253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625360" y="3470400"/>
              <a:ext cx="62532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625360" y="2741760"/>
              <a:ext cx="6253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625360" y="2013120"/>
              <a:ext cx="6253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251400" y="4879800"/>
              <a:ext cx="63216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251400" y="3470400"/>
              <a:ext cx="63216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251400" y="2741760"/>
              <a:ext cx="63216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251400" y="2013120"/>
              <a:ext cx="63216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467560" y="4879800"/>
              <a:ext cx="371520" cy="45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83560" y="4879800"/>
              <a:ext cx="158400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  <a:cs typeface="Traditional Arabic"/>
                </a:rPr>
                <a:t>البدء في البنا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90280" y="4879800"/>
              <a:ext cx="70164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63880" y="487980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336760" y="4879800"/>
              <a:ext cx="62712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34400" y="4879800"/>
              <a:ext cx="701640" cy="45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467560" y="3470400"/>
              <a:ext cx="371520" cy="1409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883560" y="3470400"/>
              <a:ext cx="158400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  <a:cs typeface="Traditional Arabic"/>
                </a:rPr>
                <a:t>تسليم المخطط لمقاول بعد اختياره للتنفي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90280" y="3470400"/>
              <a:ext cx="70164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63880" y="3470400"/>
              <a:ext cx="62712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336760" y="3470400"/>
              <a:ext cx="62712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634400" y="3470400"/>
              <a:ext cx="701640" cy="1409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635120" y="1206360"/>
              <a:ext cx="2657520" cy="335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سنة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1424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مثلا أو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467560" y="1206360"/>
              <a:ext cx="371520" cy="806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336760" y="274176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336760" y="201312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336760" y="1541520"/>
              <a:ext cx="62712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ثال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634400" y="2741760"/>
              <a:ext cx="70164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63880" y="274176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90280" y="2741760"/>
              <a:ext cx="70164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883560" y="2741760"/>
              <a:ext cx="158400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  <a:cs typeface="Traditional Arabic"/>
                </a:rPr>
                <a:t>عمل المخططات اللازم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467560" y="2741760"/>
              <a:ext cx="371520" cy="72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634400" y="2013120"/>
              <a:ext cx="70164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63880" y="2013120"/>
              <a:ext cx="62712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590280" y="2013120"/>
              <a:ext cx="70164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883560" y="2013120"/>
              <a:ext cx="1584000" cy="728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  <a:cs typeface="Traditional Arabic"/>
                </a:rPr>
                <a:t>شراء الأرض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467560" y="2013120"/>
              <a:ext cx="371520" cy="72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634400" y="1541520"/>
              <a:ext cx="70164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راب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63880" y="1541520"/>
              <a:ext cx="62712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ثان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590280" y="1541520"/>
              <a:ext cx="701640" cy="47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</a:rPr>
                <a:t>الربع الأو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883560" y="1206360"/>
              <a:ext cx="1584000" cy="806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الهدف الإجرائ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4920" y="20131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4920" y="274176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4920" y="34704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4920" y="579132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39080" y="1206360"/>
              <a:ext cx="0" cy="4584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67560" y="1206360"/>
              <a:ext cx="0" cy="45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92640" y="1206360"/>
              <a:ext cx="0" cy="45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920" y="1206360"/>
              <a:ext cx="0" cy="4584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9100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388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676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48798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533556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83560" y="1206360"/>
              <a:ext cx="0" cy="45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896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2608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51400" y="1541520"/>
              <a:ext cx="0" cy="424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5120" y="1206360"/>
              <a:ext cx="0" cy="45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634760" y="1541520"/>
              <a:ext cx="524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04920" y="120636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9596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461240" y="5943600"/>
            <a:ext cx="1221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*بالإمكان الاستعانة ببرامج كمبيوتر متخصصة في وضع الخطط مما يسهل عليك الأ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20720" y="333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مثال لخطة سنوية* : عملية شراء أرض و بناء منزل عل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53B4-6C89-4B84-B357-F8132B08F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9596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13240" y="673200"/>
            <a:ext cx="52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"/>
              </a:rPr>
              <a:t>مثال للأجندة اليومية لطالب يدرس في الجامع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969840" y="5943600"/>
            <a:ext cx="107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بالطبع قد تحتوي الأجندة اليومية على قائمة أطول بكثير لكن هذا مجرد مثال لأجندة يو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1295280"/>
            <a:ext cx="7925040" cy="4994280"/>
            <a:chOff x="609480" y="1295280"/>
            <a:chExt cx="7925040" cy="4994280"/>
          </a:xfrm>
        </p:grpSpPr>
        <p:sp>
          <p:nvSpPr>
            <p:cNvPr id="163" name=""/>
            <p:cNvSpPr/>
            <p:nvPr/>
          </p:nvSpPr>
          <p:spPr>
            <a:xfrm flipH="1">
              <a:off x="7899480" y="1751040"/>
              <a:ext cx="635040" cy="1004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409360" y="1751040"/>
              <a:ext cx="248940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1000"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800000"/>
                  </a:solidFill>
                  <a:latin typeface="Arial"/>
                  <a:cs typeface="Arial"/>
                </a:rPr>
                <a:t>الاتصـــال علــــى أقاربنــــــا للاجتماع العائلي يوم غد بعد صــــلاة العشــــــــــــــــــــاء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098960" y="1751040"/>
              <a:ext cx="131112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بعد صلاة العص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351960" y="1751040"/>
              <a:ext cx="74628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09480" y="1751040"/>
              <a:ext cx="274320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خبار الوالد بنتيجة الاتصال فـــور الانتهــــــــــــــــــاء منــــــــــــــــ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09480" y="5284800"/>
              <a:ext cx="274320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ورقـــة الطلبــــات مـن الوالــــــد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9480" y="4095720"/>
              <a:ext cx="2743200" cy="118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سيكون معنا الزملاء محمد و سعد و ناصر و سيقوم محمـد بالاتصال بهــــم للتأكـــــــــــد من حضوره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9480" y="3395520"/>
              <a:ext cx="2743200" cy="70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اتصال على مكتب الطباعة للتأكد مــــن ساعـــــــات العمــــــــــــــ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09480" y="2755800"/>
              <a:ext cx="2743200" cy="6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لا يوج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09480" y="1295280"/>
              <a:ext cx="2743200" cy="455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</a:rPr>
                <a:t>أطراف معن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098960" y="1295280"/>
              <a:ext cx="1311120" cy="455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</a:rPr>
                <a:t>الساع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351960" y="1295280"/>
              <a:ext cx="746280" cy="455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 rtl="1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</a:rPr>
                <a:t>المكا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51960" y="5284800"/>
              <a:ext cx="74628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بقالة الحار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1960" y="4095720"/>
              <a:ext cx="746280" cy="118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في منزل صديقي محم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1960" y="3395520"/>
              <a:ext cx="746280" cy="70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نطقة حول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351960" y="2755800"/>
              <a:ext cx="746280" cy="6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كتبة المنز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098960" y="5284800"/>
              <a:ext cx="131112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قبل صلاة العشا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098960" y="4095720"/>
              <a:ext cx="1311120" cy="118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بعد صلاة العشا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098960" y="3395520"/>
              <a:ext cx="1311120" cy="70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بعد صلاة المغرب مباشر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098960" y="2755800"/>
              <a:ext cx="1311120" cy="6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4-5.5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مسا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99480" y="5284800"/>
              <a:ext cx="635040" cy="1004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409360" y="5284800"/>
              <a:ext cx="2489400" cy="1004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800000"/>
                  </a:solidFill>
                  <a:latin typeface="Arial"/>
                  <a:cs typeface="Arial"/>
                </a:rPr>
                <a:t>شـراء حاجيــــات المنزل من البقالــة أثنــــاء عودتي مــن مكتـــــب الطباعــــــــــــــــــ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899480" y="4095720"/>
              <a:ext cx="635040" cy="1189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409360" y="4095720"/>
              <a:ext cx="2489400" cy="118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800000"/>
                  </a:solidFill>
                  <a:latin typeface="Arial"/>
                  <a:cs typeface="Arial"/>
                </a:rPr>
                <a:t>مراجعـــة مــــادة التأريـــــ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899480" y="1295280"/>
              <a:ext cx="635040" cy="45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409360" y="3395520"/>
              <a:ext cx="2489400" cy="70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800000"/>
                  </a:solidFill>
                  <a:latin typeface="Arial"/>
                  <a:cs typeface="Arial"/>
                </a:rPr>
                <a:t>تسليــم بحـــث مــــــادة اللغة العربيــة إلى  مكتـــب طباع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899480" y="3395520"/>
              <a:ext cx="635040" cy="70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409360" y="2755800"/>
              <a:ext cx="2489400" cy="6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800000"/>
                  </a:solidFill>
                  <a:latin typeface="Arial"/>
                  <a:cs typeface="Arial"/>
                </a:rPr>
                <a:t>مراجعــــة مــــادة الحديــــ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899480" y="2755800"/>
              <a:ext cx="635040" cy="63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409360" y="1295280"/>
              <a:ext cx="2489400" cy="455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</a:rPr>
                <a:t>الأنشطة اليو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899480" y="12952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09480" y="175104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09480" y="33955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9480" y="40957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9480" y="6289560"/>
              <a:ext cx="7925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34520" y="1295280"/>
              <a:ext cx="0" cy="499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9480" y="129528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1295280"/>
              <a:ext cx="0" cy="499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09480" y="1295280"/>
              <a:ext cx="7290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52848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129528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8960" y="129528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52680" y="129528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27558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4032-D8C2-40C6-8B19-E129B3CC5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11:17:34Z</dcterms:created>
  <dc:creator>IT</dc:creator>
  <dc:description/>
  <dc:language>en-US</dc:language>
  <cp:lastModifiedBy>123</cp:lastModifiedBy>
  <dcterms:modified xsi:type="dcterms:W3CDTF">2004-03-18T14:39:33Z</dcterms:modified>
  <cp:revision>129</cp:revision>
  <dc:subject/>
  <dc:title>No Slide Title</dc:title>
</cp:coreProperties>
</file>