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AF5-CD5F-48C6-8F64-3335515E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8E1-6F8A-490B-9F8A-794AA7E6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EE9-7126-439C-B807-14508339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4ECC-0845-40C7-8291-8B70C341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4E6-E5A2-4723-89B8-68F1A181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1ADC-C2DD-45A7-B4D9-BB866F9B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02B0-3523-4F4A-96B0-D83D9EE5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5F1-FD13-44CE-9164-68E06C57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B13A-6977-4780-87EC-AB1D9BFE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C119-24E9-49D2-BDDE-1229F39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4C1-8293-4F0A-B7CE-D78040E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E5C-BC1D-4896-95C2-7D0BB05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6DE-8738-4A4F-8B9D-9D3B19A95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840" y="0"/>
            <a:ext cx="684216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90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4:22:28Z</dcterms:created>
  <dc:creator>User</dc:creator>
  <dc:description/>
  <dc:language>en-US</dc:language>
  <cp:lastModifiedBy>User</cp:lastModifiedBy>
  <dcterms:modified xsi:type="dcterms:W3CDTF">2008-12-26T15:09:03Z</dcterms:modified>
  <cp:revision>6</cp:revision>
  <dc:subject/>
  <dc:title>الشريحة 1</dc:title>
</cp:coreProperties>
</file>