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42AE-08F9-4577-9D49-D207FDE8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32AD-6438-41EF-8F62-C358F2C1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AAD4-BE12-4DE4-BD61-D88A1C84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E7A7-9BDB-47B4-A718-4985EE12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76F4-4D17-4243-86DE-FC1D010B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FF3A-9621-411D-9758-D6C966EA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35B0-3B4F-4CB2-80DC-5AB44B07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D64D-3FAD-4DD6-AC2D-0E52920F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5B3C-B948-480F-86F8-AB592A07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855F-E841-4E8B-B81B-9CB5C12D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9E5E-7411-4587-9806-798C4F75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156-2A0C-4051-A7A9-570408FD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D277-5B11-4770-AC49-D812BEDC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9004-CE5C-4F7F-9C27-C5ED64B0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133D-762D-40CF-928B-5D7A31B3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F7AD-B049-4C5F-9FE8-F930B6EB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7EAE-8DE2-4409-99B3-82291060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E974D-0ADB-428A-98D7-22CC1FB8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4F9DB-1256-4771-952A-68EBC4D7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3135A-90B0-4BC6-AA63-2166AF86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D9111-36FA-4BF2-BA9D-E51ABD33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371FC-AA3C-4006-9F67-F1B1A5DF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F54-1E6C-4146-BD47-AF199323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484F4-9B3A-4E8D-AF82-9AA0A536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F933E-770D-4374-958A-2B80AD93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6477E-4790-4BD1-9C8E-F4CC7220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877C4-EE8D-48F9-BE49-8236451B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C86BB-948D-4065-813C-94E8E27A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5BA77-94F1-413D-85F0-6F58881C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51E90-3CB7-4649-9619-5B5010B9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55BF8-AADF-47B4-B5FF-88A0D221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D5474-6557-460E-8419-BEFD7EBA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7E974-EC51-41F9-994C-757FB12A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394C-F126-4FDF-802D-EF8E8DCE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72873-C925-4526-871C-81A3D6CB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64414-2F93-4985-89AD-50F66B5F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5C670-15DB-4DE9-98C6-2B4EEFD4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B758C-A974-4221-B0D8-ED48056A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519F5-0DCE-450A-A0C3-ABF849DA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21FFD-E0B2-4526-888D-4C0DF3F3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81487-C211-46F4-8085-897E7E05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60876-CEB4-4E53-A35B-832077C6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C199F-9596-4F6C-913B-2368767F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B4D7-9220-448F-859C-3CCA35D4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CFB9-A075-4407-B02A-A559DE0D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419-39CC-4A08-A10F-E7CEC994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10FB-576F-471D-8620-E725AB8A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8362-099B-4A6F-A377-31FA55EF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3D85-71A7-4B09-854C-CD73CDF36E5E}" type="slidenum">
              <a:rPr b="0" lang="ar-S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6A03-CEAF-4B26-8579-E10065A6C4FC}" type="slidenum">
              <a:rPr b="0" lang="ar-S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F432-1ED4-4B56-A8C1-D7A4880366B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7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4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0DAD-1B90-4F00-8033-AB66F7A8BEA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042920" y="2924280"/>
            <a:ext cx="6624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d13"/>
                </a:solidFill>
                <a:latin typeface="Andalus"/>
              </a:rPr>
              <a:t>الـبـلاغـة 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d13"/>
              </a:solidFill>
              <a:latin typeface="Andalus"/>
              <a:ea typeface="Andalus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d13"/>
                </a:solidFill>
                <a:latin typeface="Andalus"/>
              </a:rPr>
              <a:t>أنـشـطة بـلاغـيـة تـعـزيـزيـة ( البديع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d13"/>
              </a:solidFill>
              <a:latin typeface="Andalus"/>
              <a:ea typeface="Andalus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0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052720" y="0"/>
            <a:ext cx="468000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50920" y="193680"/>
            <a:ext cx="8137440" cy="74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00"/>
                </a:solidFill>
                <a:latin typeface="Arial"/>
              </a:rPr>
              <a:t>حسن </a:t>
            </a: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تقسيم</a:t>
            </a:r>
            <a:r>
              <a:rPr b="0" lang="ar-A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AE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قسيم البيت الشعري إلى أقسام متساوية لإحداث النغم</a:t>
            </a:r>
            <a:r>
              <a:rPr b="0" lang="ar-A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موسيقي الذي تطرب له الأذن.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ن مثل</a:t>
            </a:r>
            <a:r>
              <a:rPr b="0" lang="ar-AE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   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lang="ar-AE" sz="2400" spc="-1" strike="noStrike" u="sng">
                <a:solidFill>
                  <a:srgbClr val="ffffff"/>
                </a:solidFill>
                <a:uFillTx/>
                <a:latin typeface="Arial"/>
              </a:rPr>
              <a:t>بيضٌ صنائعنا</a:t>
            </a:r>
            <a:r>
              <a:rPr b="1" lang="ar-A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AE" sz="2400" spc="-1" strike="noStrike" u="sng">
                <a:solidFill>
                  <a:srgbClr val="ffffff"/>
                </a:solidFill>
                <a:uFillTx/>
                <a:latin typeface="Arial"/>
              </a:rPr>
              <a:t>سودٌ وقائعن</a:t>
            </a:r>
            <a:r>
              <a:rPr b="1" lang="ar-AE" sz="2400" spc="-1" strike="noStrike">
                <a:solidFill>
                  <a:srgbClr val="ffffff"/>
                </a:solidFill>
                <a:latin typeface="Arial"/>
              </a:rPr>
              <a:t>ا         خضر مرابعنا , حمر مواضينا</a:t>
            </a:r>
            <a:r>
              <a:rPr b="0" lang="ar-AE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ازدواج</a:t>
            </a:r>
            <a:r>
              <a:rPr b="0" lang="ar-AE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ذكر زوجين من الكلمات متتابعين لتحريك الذهن، وإعطاء الجرس الموسيقي.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كقول قس بن ساعد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ليل داج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ونهار ساج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،   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ونهار يزهر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وبحار تزخر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ar-AE" sz="2400" spc="-1" strike="noStrike">
                <a:solidFill>
                  <a:srgbClr val="ffff00"/>
                </a:solidFill>
                <a:latin typeface="Arial"/>
              </a:rPr>
              <a:t>الاقتباس و التضمين</a:t>
            </a:r>
            <a:r>
              <a:rPr b="1" lang="ar-A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AE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ffffff"/>
                </a:solidFill>
                <a:latin typeface="Arial"/>
              </a:rPr>
              <a:t>الاقتباس تضمين النثر أو الشعر شيئا من القرآن الكريم أو الحديث الشريف من غير دلالة أو اشارة على أنه منهما</a:t>
            </a:r>
            <a:r>
              <a:rPr b="0" lang="ar-A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A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Arial"/>
              </a:rPr>
              <a:t>التضمين : </a:t>
            </a:r>
            <a:r>
              <a:rPr b="1" lang="ar-AE" sz="2400" spc="-1" strike="noStrike">
                <a:solidFill>
                  <a:srgbClr val="ffffff"/>
                </a:solidFill>
                <a:latin typeface="Arial"/>
              </a:rPr>
              <a:t>تضمين النثر أو الشعر شيئا من</a:t>
            </a:r>
            <a:r>
              <a:rPr b="0" lang="ar-AE" sz="2400" spc="-1" strike="noStrike">
                <a:solidFill>
                  <a:srgbClr val="ffffff"/>
                </a:solidFill>
                <a:latin typeface="Arial"/>
              </a:rPr>
              <a:t> كلام الآخرين</a:t>
            </a:r>
            <a:r>
              <a:rPr b="0" lang="ar-AE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4508640"/>
            <a:ext cx="1028880" cy="9968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8388360" y="4869000"/>
            <a:ext cx="10494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50920" y="1052640"/>
            <a:ext cx="8569080" cy="7559640"/>
          </a:xfrm>
          <a:prstGeom prst="rect">
            <a:avLst/>
          </a:prstGeom>
          <a:solidFill>
            <a:srgbClr val="fbe1f5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"/>
              </a:rPr>
              <a:t>أولاً: الطبا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6ee"/>
                </a:solidFill>
                <a:latin typeface="Arial"/>
              </a:rPr>
              <a:t>الجمع بين الضدين، وهو نوعان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AE" sz="2800" spc="-1" strike="noStrike">
                <a:solidFill>
                  <a:srgbClr val="0006ee"/>
                </a:solidFill>
                <a:latin typeface="Arial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cc0099"/>
                </a:solidFill>
                <a:latin typeface="Arial"/>
              </a:rPr>
              <a:t>أ-  </a:t>
            </a:r>
            <a:r>
              <a:rPr b="0" lang="ar-SA" sz="2800" spc="-1" strike="noStrike">
                <a:solidFill>
                  <a:srgbClr val="cc0099"/>
                </a:solidFill>
                <a:latin typeface="Arial"/>
              </a:rPr>
              <a:t>طباق الإيجاب</a:t>
            </a:r>
            <a:r>
              <a:rPr b="0" lang="ar-AE" sz="2800" spc="-1" strike="noStrike">
                <a:solidFill>
                  <a:srgbClr val="cc0099"/>
                </a:solidFill>
                <a:latin typeface="Arial"/>
              </a:rPr>
              <a:t>:</a:t>
            </a:r>
            <a:br>
              <a:rPr sz="2800"/>
            </a:br>
            <a:r>
              <a:rPr b="0" lang="ar-SA" sz="2800" spc="-1" strike="noStrike">
                <a:solidFill>
                  <a:srgbClr val="333333"/>
                </a:solidFill>
                <a:latin typeface="Arial"/>
              </a:rPr>
              <a:t>ويعني ذكر الكلمة ونقيضها، كقوله تعالى</a:t>
            </a:r>
            <a:r>
              <a:rPr b="0" lang="ar-SA" sz="2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ar-SA" sz="2400" spc="-1" strike="noStrike">
                <a:solidFill>
                  <a:srgbClr val="ff3300"/>
                </a:solidFill>
                <a:latin typeface="Arial"/>
              </a:rPr>
              <a:t>وما يستوي </a:t>
            </a:r>
            <a:r>
              <a:rPr b="0" lang="ar-SA" sz="2400" spc="-1" strike="noStrike" u="sng">
                <a:solidFill>
                  <a:srgbClr val="ff3300"/>
                </a:solidFill>
                <a:uFillTx/>
                <a:latin typeface="Arial"/>
              </a:rPr>
              <a:t>الأعمى </a:t>
            </a:r>
            <a:r>
              <a:rPr b="0" lang="ar-SA" sz="2400" spc="-1" strike="noStrike">
                <a:solidFill>
                  <a:srgbClr val="ff3300"/>
                </a:solidFill>
                <a:latin typeface="Arial"/>
              </a:rPr>
              <a:t>و</a:t>
            </a:r>
            <a:r>
              <a:rPr b="0" lang="ar-SA" sz="2400" spc="-1" strike="noStrike" u="sng">
                <a:solidFill>
                  <a:srgbClr val="ff3300"/>
                </a:solidFill>
                <a:uFillTx/>
                <a:latin typeface="Arial"/>
              </a:rPr>
              <a:t>البصير</a:t>
            </a:r>
            <a:r>
              <a:rPr b="0" lang="ar-SA" sz="2400" spc="-1" strike="noStrike">
                <a:solidFill>
                  <a:srgbClr val="ff3300"/>
                </a:solidFill>
                <a:latin typeface="Arial"/>
              </a:rPr>
              <a:t>، ولا ا</a:t>
            </a:r>
            <a:r>
              <a:rPr b="0" lang="ar-SA" sz="2400" spc="-1" strike="noStrike" u="sng">
                <a:solidFill>
                  <a:srgbClr val="ff3300"/>
                </a:solidFill>
                <a:uFillTx/>
                <a:latin typeface="Arial"/>
              </a:rPr>
              <a:t>لظلمات</a:t>
            </a:r>
            <a:r>
              <a:rPr b="0" lang="ar-SA" sz="2400" spc="-1" strike="noStrike">
                <a:solidFill>
                  <a:srgbClr val="ff3300"/>
                </a:solidFill>
                <a:latin typeface="Arial"/>
              </a:rPr>
              <a:t> ولا </a:t>
            </a:r>
            <a:r>
              <a:rPr b="0" lang="ar-SA" sz="2400" spc="-1" strike="noStrike" u="sng">
                <a:solidFill>
                  <a:srgbClr val="ff3300"/>
                </a:solidFill>
                <a:uFillTx/>
                <a:latin typeface="Arial"/>
              </a:rPr>
              <a:t>النور</a:t>
            </a:r>
            <a:r>
              <a:rPr b="0" lang="ar-SA" sz="2400" spc="-1" strike="noStrike">
                <a:solidFill>
                  <a:srgbClr val="ff3300"/>
                </a:solidFill>
                <a:latin typeface="Arial"/>
              </a:rPr>
              <a:t>، ولا </a:t>
            </a:r>
            <a:r>
              <a:rPr b="0" lang="ar-SA" sz="2400" spc="-1" strike="noStrike" u="sng">
                <a:solidFill>
                  <a:srgbClr val="ff3300"/>
                </a:solidFill>
                <a:uFillTx/>
                <a:latin typeface="Arial"/>
              </a:rPr>
              <a:t>الظل</a:t>
            </a:r>
            <a:r>
              <a:rPr b="0" lang="ar-SA" sz="2400" spc="-1" strike="noStrike">
                <a:solidFill>
                  <a:srgbClr val="ff3300"/>
                </a:solidFill>
                <a:latin typeface="Arial"/>
              </a:rPr>
              <a:t> ولا </a:t>
            </a:r>
            <a:r>
              <a:rPr b="0" lang="ar-SA" sz="2400" spc="-1" strike="noStrike" u="sng">
                <a:solidFill>
                  <a:srgbClr val="ff3300"/>
                </a:solidFill>
                <a:uFillTx/>
                <a:latin typeface="Arial"/>
              </a:rPr>
              <a:t>الحرور</a:t>
            </a:r>
            <a:r>
              <a:rPr b="0" lang="ar-SA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d60093"/>
                </a:solidFill>
                <a:latin typeface="Arial"/>
              </a:rPr>
              <a:t>ب- طباق السلب</a:t>
            </a:r>
            <a:r>
              <a:rPr b="0" lang="ar-AE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6ee"/>
                </a:solidFill>
                <a:latin typeface="Arial"/>
              </a:rPr>
              <a:t>ويكون بذكر الشيء ثم نفيه، كقوله تعالى</a:t>
            </a:r>
            <a:r>
              <a:rPr b="0" lang="ar-SA" sz="2800" spc="-1" strike="noStrike">
                <a:solidFill>
                  <a:srgbClr val="0006ee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6ee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6ee"/>
                </a:solidFill>
                <a:latin typeface="Arial"/>
              </a:rPr>
              <a:t>                  </a:t>
            </a:r>
            <a:r>
              <a:rPr b="0" lang="ar-SA" sz="2800" spc="-1" strike="noStrike">
                <a:solidFill>
                  <a:srgbClr val="0006ee"/>
                </a:solidFill>
                <a:latin typeface="Arial"/>
              </a:rPr>
              <a:t>" </a:t>
            </a:r>
            <a:r>
              <a:rPr b="0" lang="ar-SA" sz="2800" spc="-1" strike="noStrike">
                <a:solidFill>
                  <a:srgbClr val="0006ee"/>
                </a:solidFill>
                <a:latin typeface="Arial"/>
              </a:rPr>
              <a:t>ف</a:t>
            </a:r>
            <a:r>
              <a:rPr b="0" lang="ar-SA" sz="2800" spc="-1" strike="noStrike" u="sng">
                <a:solidFill>
                  <a:srgbClr val="0006ee"/>
                </a:solidFill>
                <a:uFillTx/>
                <a:latin typeface="Arial"/>
              </a:rPr>
              <a:t>لا تخشوا </a:t>
            </a:r>
            <a:r>
              <a:rPr b="0" lang="ar-SA" sz="2800" spc="-1" strike="noStrike">
                <a:solidFill>
                  <a:srgbClr val="0006ee"/>
                </a:solidFill>
                <a:latin typeface="Arial"/>
              </a:rPr>
              <a:t>الناس وا</a:t>
            </a:r>
            <a:r>
              <a:rPr b="0" lang="ar-SA" sz="2800" spc="-1" strike="noStrike" u="sng">
                <a:solidFill>
                  <a:srgbClr val="0006ee"/>
                </a:solidFill>
                <a:uFillTx/>
                <a:latin typeface="Arial"/>
              </a:rPr>
              <a:t>خشو</a:t>
            </a:r>
            <a:r>
              <a:rPr b="0" lang="ar-SA" sz="2800" spc="-1" strike="noStrike">
                <a:solidFill>
                  <a:srgbClr val="0006ee"/>
                </a:solidFill>
                <a:latin typeface="Arial"/>
              </a:rPr>
              <a:t>ن</a:t>
            </a:r>
            <a:r>
              <a:rPr b="0" lang="ar-SA" sz="2800" spc="-1" strike="noStrike">
                <a:solidFill>
                  <a:srgbClr val="0006ee"/>
                </a:solidFill>
                <a:latin typeface="Arial"/>
              </a:rPr>
              <a:t>"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268360" y="404640"/>
            <a:ext cx="43927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من المحسنات المعنوية: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826920" y="90792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42920" y="2492280"/>
            <a:ext cx="748980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ثالثا: </a:t>
            </a:r>
            <a:r>
              <a:rPr b="0" lang="ar-SA" sz="2400" spc="-1" strike="noStrike">
                <a:solidFill>
                  <a:srgbClr val="ffff66"/>
                </a:solidFill>
                <a:latin typeface="Arial"/>
              </a:rPr>
              <a:t>التور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AE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ورية ذكر كلمة لها معنيان،أحدهما قريب غير مقصود، والآخر بعيد مقصود من مثل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قول الشاعر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ar-AE" sz="2000" spc="-1" strike="noStrike">
                <a:solidFill>
                  <a:srgbClr val="ffffff"/>
                </a:solidFill>
                <a:latin typeface="Arial"/>
              </a:rPr>
              <a:t>و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قالت رُحْ بربك من أمامي           فقلتُ لها بربك أنتِ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روحي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فالتورية في كلمة روحي وقرينتها رح ومعناها القريب اذهبي ولم يذكر له ملائم والمعنى</a:t>
            </a:r>
            <a:br>
              <a:rPr sz="2000"/>
            </a:b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بعيد نفسي . للمعنيين القريب والبعيد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والتورية تثير الذهن، وتجذب الانتباه، وتخلص من المواقف الحرجة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4360" y="161640"/>
            <a:ext cx="751032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ثانياً:المقابلة</a:t>
            </a:r>
            <a:r>
              <a:rPr b="0" lang="ar-AE" sz="28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ar-SA" sz="2000" spc="-1" strike="noStrike">
                <a:solidFill>
                  <a:srgbClr val="00ffff"/>
                </a:solidFill>
                <a:latin typeface="Arial"/>
              </a:rPr>
              <a:t>هي طباق ولكن بين جُمَل وجمل ،مثل قوله تعالى: (</a:t>
            </a:r>
            <a:r>
              <a:rPr b="0" lang="ar-SA" sz="2000" spc="-1" strike="noStrike" u="sng">
                <a:solidFill>
                  <a:srgbClr val="00ffff"/>
                </a:solidFill>
                <a:uFillTx/>
                <a:latin typeface="Arial"/>
              </a:rPr>
              <a:t>فليضحكوا قليلاً</a:t>
            </a:r>
            <a:r>
              <a:rPr b="0" lang="ar-SA" sz="2000" spc="-1" strike="noStrike">
                <a:solidFill>
                  <a:srgbClr val="00ffff"/>
                </a:solidFill>
                <a:latin typeface="Arial"/>
              </a:rPr>
              <a:t>، </a:t>
            </a:r>
            <a:r>
              <a:rPr b="0" lang="ar-SA" sz="2000" spc="-1" strike="noStrike" u="sng">
                <a:solidFill>
                  <a:srgbClr val="00ffff"/>
                </a:solidFill>
                <a:uFillTx/>
                <a:latin typeface="Arial"/>
              </a:rPr>
              <a:t>وليبكوا كثيراً</a:t>
            </a:r>
            <a:r>
              <a:rPr b="0" lang="ar-SA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الشاعر: ما </a:t>
            </a: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أحسن الدين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والدنيا إذا اجتمعا  </a:t>
            </a: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وأقبح الكفر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والإفلاس </a:t>
            </a:r>
            <a:r>
              <a:rPr b="0" lang="ar-AE" sz="1800" spc="-1" strike="noStrike">
                <a:solidFill>
                  <a:srgbClr val="ffffff"/>
                </a:solidFill>
                <a:latin typeface="Arial"/>
              </a:rPr>
              <a:t>بالرجل</a:t>
            </a:r>
            <a:br>
              <a:rPr sz="1800"/>
            </a:br>
            <a:br>
              <a:rPr sz="1800"/>
            </a:br>
            <a:r>
              <a:rPr b="0" lang="ar-AE" sz="1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898560" y="325440"/>
            <a:ext cx="770580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ffffff"/>
                </a:solidFill>
                <a:latin typeface="Arial"/>
                <a:cs typeface="Andalus"/>
              </a:rPr>
              <a:t>حدد المحسنات البديعية الواردة في الأبيات الآتية ثم وضح نوعه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50920" y="907920"/>
            <a:ext cx="6553440" cy="52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abic Transparent"/>
              </a:rPr>
              <a:t> إذا مَلكٌ لم يكن ذا هبةْ                        فدعه فدولته ذاهبةْ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abic Transparent"/>
              </a:rPr>
              <a:t> وننكر إذا شئنا على الناس قولهم        ولا ينكرون القول حين نقو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abic Transparent"/>
              </a:rPr>
              <a:t>من بحر شعرِك أغترف                   وبفضل علمِك أعتر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abic Transparent"/>
              </a:rPr>
              <a:t> و أنت كالماء إن رضيت صفاءً          و اذا ما سخطت كنت لهيب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abic Transparent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أقول وقد شنوا إلى الحرب غارة          دعوني فإني آكل الخبز بالجب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5640" y="901800"/>
            <a:ext cx="1440000" cy="3664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75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5640" y="1844640"/>
            <a:ext cx="1440000" cy="3668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75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28720" y="2708280"/>
            <a:ext cx="1439640" cy="3668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75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28720" y="3645000"/>
            <a:ext cx="1439640" cy="3664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75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26920" y="4502160"/>
            <a:ext cx="1440000" cy="3668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75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26920" y="5445000"/>
            <a:ext cx="1440000" cy="3668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75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148360" y="333360"/>
            <a:ext cx="3671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d13"/>
                </a:solidFill>
                <a:latin typeface="Andalus"/>
              </a:rPr>
              <a:t>نواتج التعلم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d13"/>
              </a:solidFill>
              <a:latin typeface="Andalus"/>
              <a:ea typeface="Andalus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0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5229360"/>
            <a:ext cx="2303280" cy="1474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643280" y="5229360"/>
            <a:ext cx="3168720" cy="14731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1476360" y="1916280"/>
            <a:ext cx="6120000" cy="30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ndalus"/>
              </a:rPr>
              <a:t>تحديد المحسنات البديعية وتوضيحها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ndalus"/>
              <a:ea typeface="Andalus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ndalus"/>
              </a:rPr>
              <a:t>تمييز المحسنات اللفظية من المعنوية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ndalus"/>
              <a:ea typeface="Andal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ndalus"/>
              <a:ea typeface="Andal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539640" y="333360"/>
            <a:ext cx="8135280" cy="4318200"/>
            <a:chOff x="539640" y="333360"/>
            <a:chExt cx="8135280" cy="4318200"/>
          </a:xfrm>
        </p:grpSpPr>
        <p:cxnSp>
          <p:nvCxnSpPr>
            <p:cNvPr id="255" name="_s88068"/>
            <p:cNvCxnSpPr>
              <a:stCxn id="256" idx="0"/>
              <a:endCxn id="257" idx="2"/>
            </p:cNvCxnSpPr>
            <p:nvPr/>
          </p:nvCxnSpPr>
          <p:spPr>
            <a:xfrm flipV="1" rot="16200000">
              <a:off x="5598360" y="1068120"/>
              <a:ext cx="864360" cy="2847960"/>
            </a:xfrm>
            <a:prstGeom prst="bentConnector3">
              <a:avLst>
                <a:gd name="adj1" fmla="val 361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8" name="_s88069"/>
            <p:cNvCxnSpPr>
              <a:stCxn id="259" idx="0"/>
              <a:endCxn id="257" idx="2"/>
            </p:cNvCxnSpPr>
            <p:nvPr/>
          </p:nvCxnSpPr>
          <p:spPr>
            <a:xfrm flipV="1">
              <a:off x="4606920" y="2059920"/>
              <a:ext cx="3240" cy="86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0" name="_s88070"/>
            <p:cNvCxnSpPr>
              <a:stCxn id="261" idx="0"/>
              <a:endCxn id="257" idx="2"/>
            </p:cNvCxnSpPr>
            <p:nvPr/>
          </p:nvCxnSpPr>
          <p:spPr>
            <a:xfrm flipH="1" flipV="1" rot="5400000">
              <a:off x="2751120" y="1068120"/>
              <a:ext cx="864360" cy="2847960"/>
            </a:xfrm>
            <a:prstGeom prst="bentConnector3">
              <a:avLst>
                <a:gd name="adj1" fmla="val 361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7" name="_s88071"/>
            <p:cNvSpPr/>
            <p:nvPr/>
          </p:nvSpPr>
          <p:spPr>
            <a:xfrm>
              <a:off x="3386880" y="333360"/>
              <a:ext cx="2440440" cy="17272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31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علم البلاغة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_s88072"/>
            <p:cNvSpPr/>
            <p:nvPr/>
          </p:nvSpPr>
          <p:spPr>
            <a:xfrm>
              <a:off x="539640" y="2924280"/>
              <a:ext cx="2440440" cy="17272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2600" spc="-1" strike="noStrike">
                  <a:solidFill>
                    <a:srgbClr val="0000ff"/>
                  </a:solidFill>
                  <a:latin typeface="Arial"/>
                  <a:cs typeface="Andalus"/>
                </a:rPr>
                <a:t>علم المعاني</a:t>
              </a:r>
              <a:r>
                <a:rPr b="0" lang="ar-AE" sz="2600" spc="-1" strike="noStrike">
                  <a:solidFill>
                    <a:srgbClr val="000000"/>
                  </a:solidFill>
                  <a:latin typeface="Arial"/>
                  <a:ea typeface="Andalus"/>
                </a:rPr>
                <a:t>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26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يختص بالتراكيب</a:t>
              </a:r>
              <a:r>
                <a:rPr b="0" lang="ar-AE" sz="2600" spc="-1" strike="noStrike">
                  <a:solidFill>
                    <a:srgbClr val="000000"/>
                  </a:solidFill>
                  <a:latin typeface="Arial"/>
                  <a:ea typeface="Andalus"/>
                </a:rPr>
                <a:t>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26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و وظائفها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_s88073"/>
            <p:cNvSpPr/>
            <p:nvPr/>
          </p:nvSpPr>
          <p:spPr>
            <a:xfrm>
              <a:off x="3386880" y="2924280"/>
              <a:ext cx="2440440" cy="17272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2600" spc="-1" strike="noStrike">
                  <a:solidFill>
                    <a:srgbClr val="0000ff"/>
                  </a:solidFill>
                  <a:latin typeface="Arial"/>
                  <a:cs typeface="Andalus"/>
                </a:rPr>
                <a:t>علم البديع</a:t>
              </a:r>
              <a:r>
                <a:rPr b="0" lang="ar-AE" sz="2600" spc="-1" strike="noStrike">
                  <a:solidFill>
                    <a:srgbClr val="000000"/>
                  </a:solidFill>
                  <a:latin typeface="Arial"/>
                  <a:ea typeface="Andalus"/>
                </a:rPr>
                <a:t>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26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يختص بجمال الأسلوب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2600" spc="-1" strike="noStrike">
                  <a:solidFill>
                    <a:srgbClr val="000000"/>
                  </a:solidFill>
                  <a:latin typeface="Arial"/>
                  <a:ea typeface="Andalus"/>
                </a:rPr>
                <a:t> </a:t>
              </a:r>
              <a:r>
                <a:rPr b="0" lang="ar-AE" sz="26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و تأثير الإيقاع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_s88074"/>
            <p:cNvSpPr/>
            <p:nvPr/>
          </p:nvSpPr>
          <p:spPr>
            <a:xfrm>
              <a:off x="6234480" y="2924280"/>
              <a:ext cx="2440440" cy="17272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2600" spc="-1" strike="noStrike">
                  <a:solidFill>
                    <a:srgbClr val="0000ff"/>
                  </a:solidFill>
                  <a:latin typeface="Arial"/>
                  <a:cs typeface="Andalus"/>
                </a:rPr>
                <a:t>علم البيان</a:t>
              </a:r>
              <a:r>
                <a:rPr b="0" lang="ar-AE" sz="2600" spc="-1" strike="noStrike">
                  <a:solidFill>
                    <a:srgbClr val="ff3399"/>
                  </a:solidFill>
                  <a:latin typeface="Arial"/>
                  <a:ea typeface="Andalus"/>
                </a:rPr>
                <a:t>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2600" spc="-1" strike="noStrike">
                  <a:solidFill>
                    <a:srgbClr val="660066"/>
                  </a:solidFill>
                  <a:latin typeface="Arial"/>
                  <a:cs typeface="Andalus"/>
                </a:rPr>
                <a:t>يختص بتصوير المعنى</a:t>
              </a:r>
              <a:r>
                <a:rPr b="0" lang="ar-AE" sz="2600" spc="-1" strike="noStrike">
                  <a:solidFill>
                    <a:srgbClr val="660066"/>
                  </a:solidFill>
                  <a:latin typeface="Arial"/>
                  <a:ea typeface="Andalus"/>
                </a:rPr>
                <a:t>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2600" spc="-1" strike="noStrike">
                  <a:solidFill>
                    <a:srgbClr val="660066"/>
                  </a:solidFill>
                  <a:latin typeface="Arial"/>
                  <a:cs typeface="Andalus"/>
                </a:rPr>
                <a:t>بطرق مختلفة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6804000" y="4724280"/>
            <a:ext cx="1657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Arial"/>
                <a:cs typeface="Andalus"/>
              </a:rPr>
              <a:t>التشبي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Arial"/>
                <a:cs typeface="Andalus"/>
              </a:rPr>
              <a:t>الاستعار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Arial"/>
                <a:cs typeface="Andalus"/>
              </a:rPr>
              <a:t>الكنا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71640" y="4724280"/>
            <a:ext cx="1657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Arial"/>
                <a:cs typeface="Andalus"/>
              </a:rPr>
              <a:t>الإطن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Arial"/>
                <a:cs typeface="Andalus"/>
              </a:rPr>
              <a:t>الإيجا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Arial"/>
                <a:cs typeface="Andalus"/>
              </a:rPr>
              <a:t>القصر .....الأسالي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92360" y="4869000"/>
            <a:ext cx="2016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Arial"/>
                <a:cs typeface="Andalus"/>
              </a:rPr>
              <a:t>المحسنات اللفظي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Arial"/>
                <a:cs typeface="Andalus"/>
              </a:rPr>
              <a:t>والمعنو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77778E-007 3.7037E-007 L -0.2875 -0.00278 E">
                                      <p:cBhvr>
                                        <p:cTn id="23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77778E-007 3.7037E-007 L -0.2875 -0.00278 E">
                                      <p:cBhvr>
                                        <p:cTn id="34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77778E-007 3.7037E-007 L -0.2875 -0.00278 E">
                                      <p:cBhvr>
                                        <p:cTn id="45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64000" y="2637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abic Transparen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2205000"/>
            <a:ext cx="748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Arial"/>
              </a:rPr>
              <a:t>علم البديع  هو العلم الذي يتناول مظاهر تحسين القول بتزيين ألفاظه و معانيه بألوان بديعية من الجمال اللفظي أو الجمال المعنوي و يطلق على هذه الألوان المحسنات البديعية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،وهذه الأدوات الفنية الهامة التي يجب على الأديب أن يمتلكها؛ لأنها تؤدي دورها في البناء الأدبي بشرط أن تكون طبيعية عفوية وغير متكلف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835280" y="547560"/>
            <a:ext cx="450828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ثانياً : علم البديع (يختص بتزيين الكلام)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7486560" y="5013360"/>
            <a:ext cx="1657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Arial"/>
                <a:cs typeface="Andalus"/>
              </a:rPr>
              <a:t>السج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Arial"/>
                <a:cs typeface="Andalus"/>
              </a:rPr>
              <a:t>الجنا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Arial"/>
                <a:cs typeface="Andalus"/>
              </a:rPr>
              <a:t>الاقتبا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11280" y="260280"/>
            <a:ext cx="7848000" cy="4679640"/>
            <a:chOff x="611280" y="260280"/>
            <a:chExt cx="7848000" cy="4679640"/>
          </a:xfrm>
        </p:grpSpPr>
        <p:cxnSp>
          <p:nvCxnSpPr>
            <p:cNvPr id="270" name="_s11289"/>
            <p:cNvCxnSpPr>
              <a:stCxn id="271" idx="0"/>
              <a:endCxn id="272" idx="2"/>
            </p:cNvCxnSpPr>
            <p:nvPr/>
          </p:nvCxnSpPr>
          <p:spPr>
            <a:xfrm flipV="1" rot="16200000">
              <a:off x="5123520" y="1542960"/>
              <a:ext cx="936360" cy="2113560"/>
            </a:xfrm>
            <a:prstGeom prst="bentConnector3">
              <a:avLst>
                <a:gd name="adj1" fmla="val 9769"/>
              </a:avLst>
            </a:prstGeom>
            <a:ln w="31680">
              <a:solidFill>
                <a:srgbClr val="ff9900"/>
              </a:solidFill>
              <a:miter/>
            </a:ln>
          </p:spPr>
        </p:cxnSp>
        <p:cxnSp>
          <p:nvCxnSpPr>
            <p:cNvPr id="273" name="_s11290"/>
            <p:cNvCxnSpPr>
              <a:stCxn id="274" idx="0"/>
              <a:endCxn id="272" idx="2"/>
            </p:cNvCxnSpPr>
            <p:nvPr/>
          </p:nvCxnSpPr>
          <p:spPr>
            <a:xfrm flipH="1" flipV="1" rot="5400000">
              <a:off x="3010680" y="1542960"/>
              <a:ext cx="936360" cy="2113920"/>
            </a:xfrm>
            <a:prstGeom prst="bentConnector3">
              <a:avLst>
                <a:gd name="adj1" fmla="val 9769"/>
              </a:avLst>
            </a:prstGeom>
            <a:ln w="31680">
              <a:solidFill>
                <a:srgbClr val="ff9900"/>
              </a:solidFill>
              <a:miter/>
            </a:ln>
          </p:spPr>
        </p:cxnSp>
        <p:sp>
          <p:nvSpPr>
            <p:cNvPr id="272" name="_s11291"/>
            <p:cNvSpPr/>
            <p:nvPr/>
          </p:nvSpPr>
          <p:spPr>
            <a:xfrm>
              <a:off x="2724120" y="260280"/>
              <a:ext cx="3622320" cy="1872000"/>
            </a:xfrm>
            <a:prstGeom prst="roundRect">
              <a:avLst>
                <a:gd name="adj" fmla="val 16667"/>
              </a:avLst>
            </a:prstGeom>
            <a:solidFill>
              <a:srgbClr val="ffccff">
                <a:alpha val="73000"/>
              </a:srgbClr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4500" spc="-1" strike="noStrike">
                  <a:solidFill>
                    <a:srgbClr val="800080"/>
                  </a:solidFill>
                  <a:latin typeface="Times New Roman"/>
                  <a:cs typeface="Times New Roman"/>
                </a:rPr>
                <a:t>المحسنات البديعية</a:t>
              </a:r>
              <a:endParaRPr b="0" lang="en-US" sz="4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_s11292"/>
            <p:cNvSpPr/>
            <p:nvPr/>
          </p:nvSpPr>
          <p:spPr>
            <a:xfrm>
              <a:off x="611280" y="3067920"/>
              <a:ext cx="3622320" cy="1872000"/>
            </a:xfrm>
            <a:prstGeom prst="roundRect">
              <a:avLst>
                <a:gd name="adj" fmla="val 16667"/>
              </a:avLst>
            </a:prstGeom>
            <a:solidFill>
              <a:srgbClr val="ffccff">
                <a:alpha val="82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3800" spc="-1" strike="noStrike">
                  <a:solidFill>
                    <a:srgbClr val="6600cc"/>
                  </a:solidFill>
                  <a:latin typeface="Times New Roman"/>
                  <a:cs typeface="Times New Roman"/>
                </a:rPr>
                <a:t>المحسنات المعنوية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400" spc="-1" strike="noStrike">
                  <a:solidFill>
                    <a:srgbClr val="333333"/>
                  </a:solidFill>
                  <a:latin typeface="Arial"/>
                </a:rPr>
                <a:t>و هي التي تتعلق بألوان الجمال المعنوي</a:t>
              </a:r>
              <a:r>
                <a:rPr b="1" lang="ar-AE" sz="2400" spc="-1" strike="noStrike">
                  <a:solidFill>
                    <a:srgbClr val="ffffff"/>
                  </a:solidFill>
                  <a:latin typeface="Arial"/>
                </a:rPr>
                <a:t>                                   </a:t>
              </a:r>
              <a:r>
                <a:rPr b="1" lang="ar-AE" sz="2400" spc="-1" strike="noStrike">
                  <a:solidFill>
                    <a:srgbClr val="0000ff"/>
                  </a:solidFill>
                  <a:latin typeface="Arial"/>
                </a:rPr>
                <a:t>تكسب الكلام عمقاً و تأكيداً</a:t>
              </a:r>
              <a:r>
                <a:rPr b="1" lang="ar-AE" sz="2400" spc="-1" strike="noStrike">
                  <a:solidFill>
                    <a:srgbClr val="ffffff"/>
                  </a:solidFill>
                  <a:latin typeface="Arial"/>
                </a:rPr>
                <a:t>        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_s11293"/>
            <p:cNvSpPr/>
            <p:nvPr/>
          </p:nvSpPr>
          <p:spPr>
            <a:xfrm>
              <a:off x="4836960" y="3067920"/>
              <a:ext cx="3622320" cy="1872000"/>
            </a:xfrm>
            <a:prstGeom prst="roundRect">
              <a:avLst>
                <a:gd name="adj" fmla="val 16667"/>
              </a:avLst>
            </a:prstGeom>
            <a:solidFill>
              <a:srgbClr val="ffccff">
                <a:alpha val="82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3800" spc="-1" strike="noStrike">
                  <a:solidFill>
                    <a:srgbClr val="6600cc"/>
                  </a:solidFill>
                  <a:latin typeface="Times New Roman"/>
                  <a:cs typeface="Times New Roman"/>
                </a:rPr>
                <a:t>المحسنات اللفظية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3800" spc="-1" strike="noStrike">
                  <a:solidFill>
                    <a:srgbClr val="ffcc66"/>
                  </a:solidFill>
                  <a:latin typeface="Arial"/>
                </a:rPr>
                <a:t>و </a:t>
              </a:r>
              <a:r>
                <a:rPr b="1" lang="ar-AE" sz="2400" spc="-1" strike="noStrike">
                  <a:solidFill>
                    <a:srgbClr val="333333"/>
                  </a:solidFill>
                  <a:latin typeface="Arial"/>
                </a:rPr>
                <a:t>هي التي تتعلق بألوان الجمال اللفظي </a:t>
              </a:r>
              <a:r>
                <a:rPr b="1" lang="ar-AE" sz="2400" spc="-1" strike="noStrike">
                  <a:solidFill>
                    <a:srgbClr val="0000ff"/>
                  </a:solidFill>
                  <a:latin typeface="Arial"/>
                </a:rPr>
                <a:t>تكسب الكلام جمالاً و تناغما</a:t>
              </a:r>
              <a:r>
                <a:rPr b="0" lang="ar-AE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3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468360" y="4941720"/>
            <a:ext cx="1657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Arial"/>
                <a:cs typeface="Andalus"/>
              </a:rPr>
              <a:t>الطبا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Arial"/>
                <a:cs typeface="Andalus"/>
              </a:rPr>
              <a:t>المقابل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Arial"/>
                <a:cs typeface="Andalus"/>
              </a:rPr>
              <a:t>التور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77778E-007 3.7037E-007 L -0.2875 -0.00278 E">
                                      <p:cBhvr>
                                        <p:cTn id="74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77778E-007 3.7037E-007 L -0.2875 -0.00278 E">
                                      <p:cBhvr>
                                        <p:cTn id="85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2124000" y="404640"/>
            <a:ext cx="504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abic Transparent"/>
              </a:rPr>
              <a:t>الأمثلة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abic Transparent"/>
              <a:ea typeface="Arabic Transparent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50920" y="1628640"/>
            <a:ext cx="8892000" cy="4897080"/>
            <a:chOff x="250920" y="1628640"/>
            <a:chExt cx="8892000" cy="4897080"/>
          </a:xfrm>
        </p:grpSpPr>
        <p:cxnSp>
          <p:nvCxnSpPr>
            <p:cNvPr id="278" name="_s90117"/>
            <p:cNvCxnSpPr>
              <a:stCxn id="279" idx="3"/>
              <a:endCxn id="280" idx="2"/>
            </p:cNvCxnSpPr>
            <p:nvPr/>
          </p:nvCxnSpPr>
          <p:spPr>
            <a:xfrm flipV="1">
              <a:off x="5586120" y="2327760"/>
              <a:ext cx="889920" cy="702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1" name="_s90118"/>
            <p:cNvCxnSpPr>
              <a:stCxn id="282" idx="3"/>
              <a:endCxn id="280" idx="2"/>
            </p:cNvCxnSpPr>
            <p:nvPr/>
          </p:nvCxnSpPr>
          <p:spPr>
            <a:xfrm flipV="1">
              <a:off x="5586120" y="2327760"/>
              <a:ext cx="889920" cy="3848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3" name="_s90119"/>
            <p:cNvCxnSpPr>
              <a:stCxn id="284" idx="3"/>
              <a:endCxn id="280" idx="2"/>
            </p:cNvCxnSpPr>
            <p:nvPr/>
          </p:nvCxnSpPr>
          <p:spPr>
            <a:xfrm flipV="1">
              <a:off x="5586120" y="2327760"/>
              <a:ext cx="889920" cy="2801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5" name="_s90120"/>
            <p:cNvCxnSpPr>
              <a:stCxn id="286" idx="3"/>
              <a:endCxn id="280" idx="2"/>
            </p:cNvCxnSpPr>
            <p:nvPr/>
          </p:nvCxnSpPr>
          <p:spPr>
            <a:xfrm flipV="1">
              <a:off x="5586120" y="2327760"/>
              <a:ext cx="889920" cy="174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0" name="_s90121"/>
            <p:cNvSpPr/>
            <p:nvPr/>
          </p:nvSpPr>
          <p:spPr>
            <a:xfrm>
              <a:off x="3807720" y="1628640"/>
              <a:ext cx="5335200" cy="69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4400" spc="-1" strike="noStrike">
                  <a:solidFill>
                    <a:srgbClr val="0000ff"/>
                  </a:solidFill>
                  <a:latin typeface="Arial"/>
                </a:rPr>
                <a:t>  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3400" spc="-1" strike="noStrike">
                  <a:solidFill>
                    <a:srgbClr val="ffff00"/>
                  </a:solidFill>
                  <a:latin typeface="Arial"/>
                </a:rPr>
                <a:t>         </a:t>
              </a:r>
              <a:r>
                <a:rPr b="1" lang="ar-AE" sz="3400" spc="-1" strike="noStrike">
                  <a:solidFill>
                    <a:srgbClr val="000000"/>
                  </a:solidFill>
                  <a:latin typeface="Arial"/>
                </a:rPr>
                <a:t>رحم الله عبداً قال خيراً فعم، أو سكت فسلم "</a:t>
              </a:r>
              <a:r>
                <a:rPr b="0" lang="ar-AE" sz="3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_s90122"/>
            <p:cNvSpPr/>
            <p:nvPr/>
          </p:nvSpPr>
          <p:spPr>
            <a:xfrm>
              <a:off x="250920" y="3727440"/>
              <a:ext cx="5335200" cy="69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0508"/>
                </a:gs>
                <a:gs pos="50000">
                  <a:srgbClr val="ff0d13"/>
                </a:gs>
                <a:gs pos="100000">
                  <a:srgbClr val="750508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3300" spc="-1" strike="noStrike">
                  <a:solidFill>
                    <a:srgbClr val="000000"/>
                  </a:solidFill>
                  <a:latin typeface="Arial"/>
                  <a:ea typeface="Andalus"/>
                </a:rPr>
                <a:t> 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_s90123"/>
            <p:cNvSpPr/>
            <p:nvPr/>
          </p:nvSpPr>
          <p:spPr>
            <a:xfrm>
              <a:off x="250920" y="4776840"/>
              <a:ext cx="5335200" cy="69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0508"/>
                </a:gs>
                <a:gs pos="50000">
                  <a:srgbClr val="ff0d13"/>
                </a:gs>
                <a:gs pos="100000">
                  <a:srgbClr val="750508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3300" spc="-1" strike="noStrike">
                  <a:solidFill>
                    <a:srgbClr val="000000"/>
                  </a:solidFill>
                  <a:latin typeface="Arial"/>
                  <a:ea typeface="Andalus"/>
                </a:rPr>
                <a:t>.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_s90124"/>
            <p:cNvSpPr/>
            <p:nvPr/>
          </p:nvSpPr>
          <p:spPr>
            <a:xfrm>
              <a:off x="250920" y="5826240"/>
              <a:ext cx="5335200" cy="69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0508"/>
                </a:gs>
                <a:gs pos="50000">
                  <a:srgbClr val="ff0d13"/>
                </a:gs>
                <a:gs pos="100000">
                  <a:srgbClr val="750508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3300" spc="-1" strike="noStrike">
                  <a:solidFill>
                    <a:srgbClr val="000000"/>
                  </a:solidFill>
                  <a:latin typeface="Arial"/>
                  <a:ea typeface="Andalus"/>
                </a:rPr>
                <a:t>              </a:t>
              </a:r>
              <a:r>
                <a:rPr b="0" lang="ar-SA" sz="2400" spc="-1" strike="noStrike">
                  <a:solidFill>
                    <a:srgbClr val="ff3300"/>
                  </a:solidFill>
                  <a:latin typeface="Arial"/>
                </a:rPr>
                <a:t>(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_s90125"/>
            <p:cNvSpPr/>
            <p:nvPr/>
          </p:nvSpPr>
          <p:spPr>
            <a:xfrm>
              <a:off x="250920" y="2678040"/>
              <a:ext cx="5335200" cy="69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0508"/>
                </a:gs>
                <a:gs pos="50000">
                  <a:srgbClr val="ff0d13"/>
                </a:gs>
                <a:gs pos="100000">
                  <a:srgbClr val="750508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3600" spc="-1" strike="noStrike">
                  <a:solidFill>
                    <a:srgbClr val="ffffff"/>
                  </a:solidFill>
                  <a:latin typeface="Arial"/>
                </a:rPr>
                <a:t>صلينا المغرب في بلاد المغرب</a:t>
              </a:r>
              <a:r>
                <a:rPr b="1" lang="ar-AE" sz="3600" spc="-1" strike="noStrike" u="sng">
                  <a:solidFill>
                    <a:srgbClr val="ffffff"/>
                  </a:solidFill>
                  <a:uFillTx/>
                  <a:latin typeface="Arial"/>
                </a:rPr>
                <a:t>.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539640" y="119700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 u="sng">
                <a:solidFill>
                  <a:srgbClr val="ffffff"/>
                </a:solidFill>
                <a:uFillTx/>
                <a:latin typeface="Arial"/>
              </a:rPr>
              <a:t>تأملي الأمثلة الآتية</a:t>
            </a:r>
            <a:r>
              <a:rPr b="1" lang="ar-AE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AE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br>
              <a:rPr sz="2000"/>
            </a:b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abic Transparen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9280" y="3700440"/>
            <a:ext cx="7201080" cy="31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1ad1e4"/>
                </a:solidFill>
                <a:latin typeface="Arial"/>
              </a:rPr>
              <a:t>لا تغرنك من الظَلَمةِ كثرةُ الجيوش والأنصا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1ad1e4"/>
                </a:solidFill>
                <a:latin typeface="Arial"/>
              </a:rPr>
              <a:t>      ” </a:t>
            </a:r>
            <a:r>
              <a:rPr b="1" lang="ar-AE" sz="2400" spc="-1" strike="noStrike">
                <a:solidFill>
                  <a:srgbClr val="1ad1e4"/>
                </a:solidFill>
                <a:latin typeface="Arial"/>
              </a:rPr>
              <a:t>إنما يؤخرهم ليوم تشخص فيه الأبصار</a:t>
            </a:r>
            <a:r>
              <a:rPr b="1" lang="ar-AE" sz="2400" spc="-1" strike="noStrike">
                <a:solidFill>
                  <a:srgbClr val="1ad1e4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ffffff"/>
                </a:solidFill>
                <a:latin typeface="Arial"/>
              </a:rPr>
              <a:t>”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ar-AE" sz="1800" spc="-1" strike="noStrike">
                <a:solidFill>
                  <a:srgbClr val="ffff19"/>
                </a:solidFill>
                <a:latin typeface="Arial"/>
              </a:rPr>
              <a:t>”</a:t>
            </a:r>
            <a:r>
              <a:rPr b="0" lang="ar-SA" sz="1800" spc="-1" strike="noStrike">
                <a:solidFill>
                  <a:srgbClr val="ffff19"/>
                </a:solidFill>
                <a:latin typeface="Arial"/>
              </a:rPr>
              <a:t>وما يستوي </a:t>
            </a:r>
            <a:r>
              <a:rPr b="0" lang="ar-SA" sz="1800" spc="-1" strike="noStrike" u="sng">
                <a:solidFill>
                  <a:srgbClr val="ffff19"/>
                </a:solidFill>
                <a:uFillTx/>
                <a:latin typeface="Arial"/>
              </a:rPr>
              <a:t>الأعمى </a:t>
            </a:r>
            <a:r>
              <a:rPr b="0" lang="ar-SA" sz="1800" spc="-1" strike="noStrike">
                <a:solidFill>
                  <a:srgbClr val="ffff19"/>
                </a:solidFill>
                <a:latin typeface="Arial"/>
              </a:rPr>
              <a:t>و</a:t>
            </a:r>
            <a:r>
              <a:rPr b="0" lang="ar-SA" sz="1800" spc="-1" strike="noStrike" u="sng">
                <a:solidFill>
                  <a:srgbClr val="ffff19"/>
                </a:solidFill>
                <a:uFillTx/>
                <a:latin typeface="Arial"/>
              </a:rPr>
              <a:t>البصير</a:t>
            </a:r>
            <a:r>
              <a:rPr b="0" lang="ar-SA" sz="1800" spc="-1" strike="noStrike">
                <a:solidFill>
                  <a:srgbClr val="ffff19"/>
                </a:solidFill>
                <a:latin typeface="Arial"/>
              </a:rPr>
              <a:t>، ولا ا</a:t>
            </a:r>
            <a:r>
              <a:rPr b="0" lang="ar-SA" sz="1800" spc="-1" strike="noStrike" u="sng">
                <a:solidFill>
                  <a:srgbClr val="ffff19"/>
                </a:solidFill>
                <a:uFillTx/>
                <a:latin typeface="Arial"/>
              </a:rPr>
              <a:t>لظلمات</a:t>
            </a:r>
            <a:r>
              <a:rPr b="0" lang="ar-SA" sz="1800" spc="-1" strike="noStrike">
                <a:solidFill>
                  <a:srgbClr val="ffff19"/>
                </a:solidFill>
                <a:latin typeface="Arial"/>
              </a:rPr>
              <a:t> ولا </a:t>
            </a:r>
            <a:r>
              <a:rPr b="0" lang="ar-SA" sz="1800" spc="-1" strike="noStrike" u="sng">
                <a:solidFill>
                  <a:srgbClr val="ffff19"/>
                </a:solidFill>
                <a:uFillTx/>
                <a:latin typeface="Arial"/>
              </a:rPr>
              <a:t>النور</a:t>
            </a:r>
            <a:r>
              <a:rPr b="0" lang="ar-SA" sz="1800" spc="-1" strike="noStrike">
                <a:solidFill>
                  <a:srgbClr val="ffff19"/>
                </a:solidFill>
                <a:latin typeface="Arial"/>
              </a:rPr>
              <a:t>، ولا </a:t>
            </a:r>
            <a:r>
              <a:rPr b="0" lang="ar-SA" sz="1800" spc="-1" strike="noStrike" u="sng">
                <a:solidFill>
                  <a:srgbClr val="ffff19"/>
                </a:solidFill>
                <a:uFillTx/>
                <a:latin typeface="Arial"/>
              </a:rPr>
              <a:t>الظل</a:t>
            </a:r>
            <a:r>
              <a:rPr b="0" lang="ar-SA" sz="1800" spc="-1" strike="noStrike">
                <a:solidFill>
                  <a:srgbClr val="ffff19"/>
                </a:solidFill>
                <a:latin typeface="Arial"/>
              </a:rPr>
              <a:t> </a:t>
            </a:r>
            <a:r>
              <a:rPr b="0" lang="ar-AE" sz="1800" spc="-1" strike="noStrike">
                <a:solidFill>
                  <a:srgbClr val="ffff19"/>
                </a:solidFill>
                <a:latin typeface="Arial"/>
              </a:rPr>
              <a:t>                                                              </a:t>
            </a:r>
            <a:r>
              <a:rPr b="0" lang="ar-SA" sz="1800" spc="-1" strike="noStrike">
                <a:solidFill>
                  <a:srgbClr val="ffff19"/>
                </a:solidFill>
                <a:latin typeface="Arial"/>
              </a:rPr>
              <a:t>ولا </a:t>
            </a:r>
            <a:r>
              <a:rPr b="0" lang="ar-SA" sz="1800" spc="-1" strike="noStrike" u="sng">
                <a:solidFill>
                  <a:srgbClr val="ffff19"/>
                </a:solidFill>
                <a:uFillTx/>
                <a:latin typeface="Arial"/>
              </a:rPr>
              <a:t>الحرور</a:t>
            </a:r>
            <a:r>
              <a:rPr b="0" lang="ar-AE" sz="1800" spc="-1" strike="noStrike" u="sng">
                <a:solidFill>
                  <a:srgbClr val="ffff19"/>
                </a:solidFill>
                <a:uFillTx/>
                <a:latin typeface="Arial"/>
              </a:rPr>
              <a:t>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ما </a:t>
            </a: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أحسن الدين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والدنيا إذا اجتمعا  </a:t>
            </a: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وأقبح الكفر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والإفلاس </a:t>
            </a:r>
            <a:r>
              <a:rPr b="0" lang="ar-AE" sz="1800" spc="-1" strike="noStrike">
                <a:solidFill>
                  <a:srgbClr val="ffffff"/>
                </a:solidFill>
                <a:latin typeface="Arial"/>
              </a:rPr>
              <a:t>بالرجل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124000" y="404640"/>
            <a:ext cx="504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abic Transparent"/>
              </a:rPr>
              <a:t>السج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abic Transparent"/>
              <a:ea typeface="Arabic Transparent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79280" y="2925720"/>
            <a:ext cx="8424000" cy="4247640"/>
            <a:chOff x="179280" y="2925720"/>
            <a:chExt cx="8424000" cy="4247640"/>
          </a:xfrm>
        </p:grpSpPr>
        <p:cxnSp>
          <p:nvCxnSpPr>
            <p:cNvPr id="291" name="_s13339"/>
            <p:cNvCxnSpPr>
              <a:stCxn id="292" idx="3"/>
              <a:endCxn id="293" idx="2"/>
            </p:cNvCxnSpPr>
            <p:nvPr/>
          </p:nvCxnSpPr>
          <p:spPr>
            <a:xfrm flipV="1">
              <a:off x="5233680" y="3531960"/>
              <a:ext cx="843120" cy="609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4" name="_s13327"/>
            <p:cNvCxnSpPr>
              <a:stCxn id="295" idx="3"/>
              <a:endCxn id="293" idx="2"/>
            </p:cNvCxnSpPr>
            <p:nvPr/>
          </p:nvCxnSpPr>
          <p:spPr>
            <a:xfrm flipV="1">
              <a:off x="5233680" y="3531600"/>
              <a:ext cx="843120" cy="3338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6" name="_s13326"/>
            <p:cNvCxnSpPr>
              <a:stCxn id="297" idx="3"/>
              <a:endCxn id="293" idx="2"/>
            </p:cNvCxnSpPr>
            <p:nvPr/>
          </p:nvCxnSpPr>
          <p:spPr>
            <a:xfrm flipV="1">
              <a:off x="5233680" y="3531600"/>
              <a:ext cx="843120" cy="2430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8" name="_s13325"/>
            <p:cNvCxnSpPr>
              <a:stCxn id="299" idx="3"/>
              <a:endCxn id="293" idx="2"/>
            </p:cNvCxnSpPr>
            <p:nvPr/>
          </p:nvCxnSpPr>
          <p:spPr>
            <a:xfrm flipV="1">
              <a:off x="5233680" y="3531960"/>
              <a:ext cx="843120" cy="1517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93" name="_s13321"/>
            <p:cNvSpPr/>
            <p:nvPr/>
          </p:nvSpPr>
          <p:spPr>
            <a:xfrm>
              <a:off x="3548880" y="2925720"/>
              <a:ext cx="5054400" cy="606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36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أمثلة</a:t>
              </a:r>
              <a:r>
                <a:rPr b="0" lang="ar-AE" sz="3600" spc="-1" strike="noStrike">
                  <a:solidFill>
                    <a:srgbClr val="000000"/>
                  </a:solidFill>
                  <a:latin typeface="Arial"/>
                  <a:ea typeface="Andalus"/>
                </a:rPr>
                <a:t>: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_s13322"/>
            <p:cNvSpPr/>
            <p:nvPr/>
          </p:nvSpPr>
          <p:spPr>
            <a:xfrm>
              <a:off x="179280" y="4746240"/>
              <a:ext cx="5054400" cy="606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0508"/>
                </a:gs>
                <a:gs pos="50000">
                  <a:srgbClr val="ff0d13"/>
                </a:gs>
                <a:gs pos="100000">
                  <a:srgbClr val="750508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2700" spc="-1" strike="noStrike">
                  <a:solidFill>
                    <a:srgbClr val="000000"/>
                  </a:solidFill>
                  <a:latin typeface="Arial"/>
                  <a:ea typeface="Andalus"/>
                </a:rPr>
                <a:t> </a:t>
              </a:r>
              <a:r>
                <a:rPr b="1" lang="ar-AE" sz="2700" spc="-1" strike="noStrike">
                  <a:solidFill>
                    <a:srgbClr val="ffffff"/>
                  </a:solidFill>
                  <a:latin typeface="Arial"/>
                </a:rPr>
                <a:t>"</a:t>
              </a:r>
              <a:r>
                <a:rPr b="1" lang="ar-AE" sz="2700" spc="-1" strike="noStrike">
                  <a:solidFill>
                    <a:srgbClr val="ffffff"/>
                  </a:solidFill>
                  <a:latin typeface="Arial"/>
                </a:rPr>
                <a:t>رحم الله عبداًقال خيراً فع</a:t>
              </a:r>
              <a:r>
                <a:rPr b="1" lang="ar-AE" sz="2700" spc="-1" strike="noStrike" u="sng">
                  <a:solidFill>
                    <a:srgbClr val="ffffff"/>
                  </a:solidFill>
                  <a:uFillTx/>
                  <a:latin typeface="Arial"/>
                </a:rPr>
                <a:t>م</a:t>
              </a:r>
              <a:r>
                <a:rPr b="1" lang="ar-AE" sz="2700" spc="-1" strike="noStrike">
                  <a:solidFill>
                    <a:srgbClr val="ffffff"/>
                  </a:solidFill>
                  <a:latin typeface="Arial"/>
                </a:rPr>
                <a:t>، أو سكت فسل</a:t>
              </a:r>
              <a:r>
                <a:rPr b="1" lang="ar-AE" sz="2700" spc="-1" strike="noStrike" u="sng">
                  <a:solidFill>
                    <a:srgbClr val="ffffff"/>
                  </a:solidFill>
                  <a:uFillTx/>
                  <a:latin typeface="Arial"/>
                </a:rPr>
                <a:t>م</a:t>
              </a:r>
              <a:r>
                <a:rPr b="1" lang="ar-AE" sz="2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ar-AE" sz="2700" spc="-1" strike="noStrike">
                  <a:solidFill>
                    <a:srgbClr val="ffffff"/>
                  </a:solidFill>
                  <a:latin typeface="Arial"/>
                </a:rPr>
                <a:t>"</a:t>
              </a:r>
              <a:r>
                <a:rPr b="0" lang="ar-AE" sz="2700" spc="-1" strike="noStrike">
                  <a:solidFill>
                    <a:srgbClr val="000000"/>
                  </a:solidFill>
                  <a:latin typeface="Arial"/>
                  <a:ea typeface="Andalus"/>
                </a:rPr>
                <a:t>.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_s13323"/>
            <p:cNvSpPr/>
            <p:nvPr/>
          </p:nvSpPr>
          <p:spPr>
            <a:xfrm>
              <a:off x="179280" y="5656680"/>
              <a:ext cx="5054400" cy="606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0508"/>
                </a:gs>
                <a:gs pos="50000">
                  <a:srgbClr val="ff0d13"/>
                </a:gs>
                <a:gs pos="100000">
                  <a:srgbClr val="750508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2700" spc="-1" strike="noStrike">
                  <a:solidFill>
                    <a:srgbClr val="000000"/>
                  </a:solidFill>
                  <a:latin typeface="Arial"/>
                  <a:ea typeface="Andalus"/>
                </a:rPr>
                <a:t>.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_s13324"/>
            <p:cNvSpPr/>
            <p:nvPr/>
          </p:nvSpPr>
          <p:spPr>
            <a:xfrm>
              <a:off x="179280" y="6566760"/>
              <a:ext cx="5054400" cy="606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0508"/>
                </a:gs>
                <a:gs pos="50000">
                  <a:srgbClr val="ff0d13"/>
                </a:gs>
                <a:gs pos="100000">
                  <a:srgbClr val="750508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2700" spc="-1" strike="noStrike">
                  <a:solidFill>
                    <a:srgbClr val="000000"/>
                  </a:solidFill>
                  <a:latin typeface="Arial"/>
                  <a:ea typeface="Andalus"/>
                </a:rPr>
                <a:t>   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_s13338"/>
            <p:cNvSpPr/>
            <p:nvPr/>
          </p:nvSpPr>
          <p:spPr>
            <a:xfrm>
              <a:off x="179280" y="3835800"/>
              <a:ext cx="5054400" cy="606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0508"/>
                </a:gs>
                <a:gs pos="50000">
                  <a:srgbClr val="ff0d13"/>
                </a:gs>
                <a:gs pos="100000">
                  <a:srgbClr val="750508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3000" spc="-1" strike="noStrike">
                  <a:solidFill>
                    <a:srgbClr val="ffffff"/>
                  </a:solidFill>
                  <a:latin typeface="Arial"/>
                </a:rPr>
                <a:t> ليكن إقدامك توكـــ</a:t>
              </a:r>
              <a:r>
                <a:rPr b="1" lang="ar-AE" sz="3000" spc="-1" strike="noStrike" u="sng">
                  <a:solidFill>
                    <a:srgbClr val="ffffff"/>
                  </a:solidFill>
                  <a:uFillTx/>
                  <a:latin typeface="Arial"/>
                </a:rPr>
                <a:t>لا</a:t>
              </a:r>
              <a:r>
                <a:rPr b="1" lang="ar-AE" sz="3000" spc="-1" strike="noStrike">
                  <a:solidFill>
                    <a:srgbClr val="ffffff"/>
                  </a:solidFill>
                  <a:latin typeface="Arial"/>
                </a:rPr>
                <a:t> ،    وإحجامك تأمـــ</a:t>
              </a:r>
              <a:r>
                <a:rPr b="1" lang="ar-AE" sz="3000" spc="-1" strike="noStrike" u="sng">
                  <a:solidFill>
                    <a:srgbClr val="ffffff"/>
                  </a:solidFill>
                  <a:uFillTx/>
                  <a:latin typeface="Arial"/>
                </a:rPr>
                <a:t>لا</a:t>
              </a:r>
              <a:r>
                <a:rPr b="0" lang="en-GB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539640" y="1197000"/>
            <a:ext cx="7129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 u="sng">
                <a:solidFill>
                  <a:srgbClr val="ffffff"/>
                </a:solidFill>
                <a:uFillTx/>
                <a:latin typeface="Arial"/>
              </a:rPr>
              <a:t>السجع</a:t>
            </a:r>
            <a:r>
              <a:rPr b="1" lang="ar-AE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AE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سجع </a:t>
            </a:r>
            <a:r>
              <a:rPr b="1" lang="ar-AE" sz="2000" spc="-1" strike="noStrike">
                <a:solidFill>
                  <a:srgbClr val="ffffff"/>
                </a:solidFill>
                <a:latin typeface="Arial"/>
              </a:rPr>
              <a:t>وهو اتفاق آخر الجمل المتجاورة في الحرف الأخير، أو</a:t>
            </a:r>
            <a:r>
              <a:rPr b="1" lang="ar-AE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ffffff"/>
                </a:solidFill>
                <a:latin typeface="Arial"/>
              </a:rPr>
              <a:t>هو توافق الفاصلتين في الحرف الأخير</a:t>
            </a:r>
            <a:r>
              <a:rPr b="1" lang="ar-A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AE" sz="2000" spc="-1" strike="noStrike">
                <a:solidFill>
                  <a:srgbClr val="ffff66"/>
                </a:solidFill>
                <a:latin typeface="Arial"/>
              </a:rPr>
              <a:t>يعطي كل من السجع والجناس جرسا موسيقيا تطرب له الأذن وتسعد له النفس</a:t>
            </a:r>
            <a:r>
              <a:rPr b="1" lang="ar-AE" sz="2000" spc="-1" strike="noStrike">
                <a:solidFill>
                  <a:srgbClr val="ffff66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abic Transparen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2124000" y="404640"/>
            <a:ext cx="504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abic Transparent"/>
              </a:rPr>
              <a:t>الجنا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abic Transparent"/>
              <a:ea typeface="Arabic Transparent"/>
            </a:endParaRPr>
          </a:p>
        </p:txBody>
      </p:sp>
      <p:sp>
        <p:nvSpPr>
          <p:cNvPr id="302" name=""/>
          <p:cNvSpPr/>
          <p:nvPr/>
        </p:nvSpPr>
        <p:spPr>
          <a:xfrm>
            <a:off x="3708360" y="1628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Arial"/>
                <a:ea typeface="Andalu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32360" y="2565360"/>
            <a:ext cx="3390840" cy="3314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227640" y="2781360"/>
            <a:ext cx="102888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تا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305" name=""/>
          <p:cNvSpPr/>
          <p:nvPr/>
        </p:nvSpPr>
        <p:spPr>
          <a:xfrm>
            <a:off x="468360" y="2565360"/>
            <a:ext cx="3744720" cy="3314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116000" y="2637000"/>
            <a:ext cx="17049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غير تام ( ناقص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131640" y="2276640"/>
            <a:ext cx="68580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76720" y="2276640"/>
            <a:ext cx="80028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-477720" y="1195920"/>
            <a:ext cx="1061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ff9900"/>
                </a:solidFill>
                <a:latin typeface="Arial"/>
                <a:cs typeface="Times New Roman"/>
              </a:rPr>
              <a:t>الجناس </a:t>
            </a:r>
            <a:r>
              <a:rPr b="1" lang="ar-AE" sz="1400" spc="-1" strike="noStrike">
                <a:solidFill>
                  <a:srgbClr val="ff9900"/>
                </a:solidFill>
                <a:latin typeface="Arial"/>
                <a:ea typeface="Times New Roman"/>
              </a:rPr>
              <a:t>:</a:t>
            </a:r>
            <a:r>
              <a:rPr b="1" lang="ar-A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ar-AE" sz="2000" spc="-1" strike="noStrike">
                <a:solidFill>
                  <a:srgbClr val="ffffff"/>
                </a:solidFill>
                <a:latin typeface="Arial"/>
                <a:cs typeface="Times New Roman"/>
              </a:rPr>
              <a:t>و هو أن يتشابه اللفظان أو الكلمتان في الرسم الإملائي و يختلفان في المعن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( يكسب الأسلوب جمالا و جرسا موسيقا )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02720" y="1828800"/>
            <a:ext cx="45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</a:t>
            </a:r>
            <a:r>
              <a:rPr b="1" lang="ar-AE" sz="1400" spc="-1" strike="noStrike">
                <a:solidFill>
                  <a:srgbClr val="800080"/>
                </a:solidFill>
                <a:latin typeface="Arial"/>
                <a:ea typeface="Times New Roman"/>
              </a:rPr>
              <a:t>  </a:t>
            </a:r>
            <a:r>
              <a:rPr b="1" lang="ar-AE" sz="2800" spc="-1" strike="noStrike">
                <a:solidFill>
                  <a:srgbClr val="ffff66"/>
                </a:solidFill>
                <a:latin typeface="Arial"/>
                <a:cs typeface="Times New Roman"/>
              </a:rPr>
              <a:t>نوعا الجناس</a:t>
            </a:r>
            <a:r>
              <a:rPr b="1" lang="ar-AE" sz="2000" spc="-1" strike="noStrike">
                <a:solidFill>
                  <a:srgbClr val="80008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-219240" y="247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32360" y="2948040"/>
            <a:ext cx="33829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        </a:t>
            </a:r>
            <a:r>
              <a:rPr b="1" lang="ar-AE" sz="1800" spc="-1" strike="noStrike">
                <a:solidFill>
                  <a:srgbClr val="800080"/>
                </a:solidFill>
                <a:latin typeface="Arial"/>
                <a:cs typeface="Times New Roman"/>
              </a:rPr>
              <a:t>هو ما اتفق فيه اللفظان في أمور أربع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ar-AE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r>
              <a:rPr b="1" lang="ar-AE" sz="1800" spc="-1" strike="noStrike">
                <a:solidFill>
                  <a:srgbClr val="ff3399"/>
                </a:solidFill>
                <a:latin typeface="Arial"/>
                <a:ea typeface="Times New Roman"/>
              </a:rPr>
              <a:t>(نوع الحروف , شكلها، عددها , ترتيبها)</a:t>
            </a:r>
            <a:r>
              <a:rPr b="1" lang="ar-A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</a:t>
            </a:r>
            <a:r>
              <a:rPr b="1" lang="ar-AE" sz="1400" spc="-1" strike="noStrike">
                <a:solidFill>
                  <a:srgbClr val="ff0000"/>
                </a:solidFill>
                <a:latin typeface="Arial"/>
                <a:cs typeface="Times New Roman"/>
              </a:rPr>
              <a:t>من مثل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ff"/>
                </a:solidFill>
                <a:latin typeface="Arial"/>
              </a:rPr>
              <a:t>صلينا ال</a:t>
            </a:r>
            <a:r>
              <a:rPr b="1" lang="ar-AE" sz="1800" spc="-1" strike="noStrike" u="sng">
                <a:solidFill>
                  <a:srgbClr val="0000ff"/>
                </a:solidFill>
                <a:uFillTx/>
                <a:latin typeface="Arial"/>
              </a:rPr>
              <a:t>مغرب</a:t>
            </a:r>
            <a:r>
              <a:rPr b="1" lang="ar-AE" sz="1800" spc="-1" strike="noStrike">
                <a:solidFill>
                  <a:srgbClr val="0000ff"/>
                </a:solidFill>
                <a:latin typeface="Arial"/>
              </a:rPr>
              <a:t>     في بلاد ال</a:t>
            </a:r>
            <a:r>
              <a:rPr b="1" lang="ar-AE" sz="1800" spc="-1" strike="noStrike" u="sng">
                <a:solidFill>
                  <a:srgbClr val="0000ff"/>
                </a:solidFill>
                <a:uFillTx/>
                <a:latin typeface="Arial"/>
              </a:rPr>
              <a:t>مغرب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من مثل 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</a:t>
            </a:r>
            <a:r>
              <a:rPr b="1" lang="ar-AE" sz="1800" spc="-1" strike="noStrike">
                <a:solidFill>
                  <a:srgbClr val="0000ff"/>
                </a:solidFill>
                <a:latin typeface="Arial"/>
              </a:rPr>
              <a:t>ارع ال</a:t>
            </a:r>
            <a:r>
              <a:rPr b="1" lang="ar-AE" sz="1800" spc="-1" strike="noStrike" u="sng">
                <a:solidFill>
                  <a:srgbClr val="0000ff"/>
                </a:solidFill>
                <a:uFillTx/>
                <a:latin typeface="Arial"/>
              </a:rPr>
              <a:t>جار</a:t>
            </a:r>
            <a:r>
              <a:rPr b="1" lang="ar-AE" sz="1800" spc="-1" strike="noStrike">
                <a:solidFill>
                  <a:srgbClr val="0000ff"/>
                </a:solidFill>
                <a:latin typeface="Arial"/>
              </a:rPr>
              <a:t> و لو </a:t>
            </a:r>
            <a:r>
              <a:rPr b="1" lang="ar-AE" sz="1800" spc="-1" strike="noStrike" u="sng">
                <a:solidFill>
                  <a:srgbClr val="0000ff"/>
                </a:solidFill>
                <a:uFillTx/>
                <a:latin typeface="Arial"/>
              </a:rPr>
              <a:t>جار</a:t>
            </a:r>
            <a:r>
              <a:rPr b="0" lang="ar-AE" sz="1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9640" y="3020760"/>
            <a:ext cx="338472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800080"/>
                </a:solidFill>
                <a:latin typeface="Arial"/>
                <a:cs typeface="Times New Roman"/>
              </a:rPr>
              <a:t>هو ما اختلف فيه اللفظان في واحد من الأمور التالية  :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(</a:t>
            </a:r>
            <a:r>
              <a:rPr b="1" lang="ar-AE" sz="1800" spc="-1" strike="noStrike">
                <a:solidFill>
                  <a:srgbClr val="ff3399"/>
                </a:solidFill>
                <a:latin typeface="Arial"/>
                <a:cs typeface="Times New Roman"/>
              </a:rPr>
              <a:t>نوع الحروف , شكلها، عددها , ترتيبها)</a:t>
            </a:r>
            <a:r>
              <a:rPr b="1" lang="ar-A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1" lang="ar-AE" sz="1400" spc="-1" strike="noStrike">
                <a:solidFill>
                  <a:srgbClr val="ff0000"/>
                </a:solidFill>
                <a:latin typeface="Arial"/>
                <a:cs typeface="Times New Roman"/>
              </a:rPr>
              <a:t>من مثل 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ff"/>
                </a:solidFill>
                <a:latin typeface="Arial"/>
                <a:cs typeface="Times New Roman"/>
              </a:rPr>
              <a:t>دوام ال</a:t>
            </a:r>
            <a:r>
              <a:rPr b="1" lang="ar-AE" sz="2000" spc="-1" strike="noStrike" u="sng">
                <a:solidFill>
                  <a:srgbClr val="0000ff"/>
                </a:solidFill>
                <a:uFillTx/>
                <a:latin typeface="Arial"/>
                <a:cs typeface="Times New Roman"/>
              </a:rPr>
              <a:t>حال </a:t>
            </a:r>
            <a:r>
              <a:rPr b="1" lang="ar-AE" sz="2000" spc="-1" strike="noStrike">
                <a:solidFill>
                  <a:srgbClr val="0000ff"/>
                </a:solidFill>
                <a:latin typeface="Arial"/>
                <a:cs typeface="Times New Roman"/>
              </a:rPr>
              <a:t>من ال</a:t>
            </a:r>
            <a:r>
              <a:rPr b="1" lang="ar-AE" sz="2000" spc="-1" strike="noStrike" u="sng">
                <a:solidFill>
                  <a:srgbClr val="0000ff"/>
                </a:solidFill>
                <a:uFillTx/>
                <a:latin typeface="Arial"/>
                <a:cs typeface="Times New Roman"/>
              </a:rPr>
              <a:t>محا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         هلا </a:t>
            </a:r>
            <a:r>
              <a:rPr b="1" lang="ar-AE" sz="2000" spc="-1" strike="noStrike" u="sng">
                <a:solidFill>
                  <a:srgbClr val="0000ff"/>
                </a:solidFill>
                <a:uFillTx/>
                <a:latin typeface="Arial"/>
                <a:cs typeface="Times New Roman"/>
              </a:rPr>
              <a:t>نَهاك</a:t>
            </a:r>
            <a:r>
              <a:rPr b="1" lang="ar-AE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ar-AE" sz="2000" spc="-1" strike="noStrike" u="sng">
                <a:solidFill>
                  <a:srgbClr val="0000ff"/>
                </a:solidFill>
                <a:uFillTx/>
                <a:latin typeface="Arial"/>
                <a:cs typeface="Times New Roman"/>
              </a:rPr>
              <a:t>نُهاك</a:t>
            </a:r>
            <a:r>
              <a:rPr b="1" lang="ar-AE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عن فعل الشر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31" dur="2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124000" y="260280"/>
            <a:ext cx="504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abic Transparent"/>
              </a:rPr>
              <a:t>الاقتباس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abic Transparent"/>
              <a:ea typeface="Arabic Transparent"/>
            </a:endParaRPr>
          </a:p>
        </p:txBody>
      </p:sp>
      <p:sp>
        <p:nvSpPr>
          <p:cNvPr id="315" name=""/>
          <p:cNvSpPr/>
          <p:nvPr/>
        </p:nvSpPr>
        <p:spPr>
          <a:xfrm>
            <a:off x="900000" y="1484280"/>
            <a:ext cx="7423200" cy="4324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227640" y="1844640"/>
            <a:ext cx="182088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الاقتبا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317" name=""/>
          <p:cNvSpPr/>
          <p:nvPr/>
        </p:nvSpPr>
        <p:spPr>
          <a:xfrm>
            <a:off x="971640" y="-726120"/>
            <a:ext cx="7200720" cy="80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6ee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6ee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6ee"/>
                </a:solidFill>
                <a:latin typeface="Arial"/>
              </a:rPr>
              <a:t> تضمين النثر أو الشعر شيئا من القرآن الكريم أو الحديث الشريف من غير دلالة أو إشارة على أنه منهما</a:t>
            </a:r>
            <a:r>
              <a:rPr b="0" lang="ar-AE" sz="1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</a:t>
            </a:r>
            <a:r>
              <a:rPr b="1" lang="ar-AE" sz="2400" spc="-1" strike="noStrike">
                <a:solidFill>
                  <a:srgbClr val="ff0000"/>
                </a:solidFill>
                <a:latin typeface="Arial"/>
                <a:cs typeface="Times New Roman"/>
              </a:rPr>
              <a:t>من مثل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</a:t>
            </a:r>
            <a:r>
              <a:rPr b="1" lang="ar-AE" sz="2400" spc="-1" strike="noStrike">
                <a:solidFill>
                  <a:srgbClr val="820000"/>
                </a:solidFill>
                <a:latin typeface="Arial"/>
                <a:cs typeface="Times New Roman"/>
              </a:rPr>
              <a:t>لا </a:t>
            </a:r>
            <a:r>
              <a:rPr b="1" lang="ar-AE" sz="2400" spc="-1" strike="noStrike">
                <a:solidFill>
                  <a:srgbClr val="820000"/>
                </a:solidFill>
                <a:latin typeface="Arial"/>
              </a:rPr>
              <a:t>تغرنك من الظَلَمةِ كثرةُ الجيوش والأنصا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82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820000"/>
                </a:solidFill>
                <a:latin typeface="Arial"/>
              </a:rPr>
              <a:t> ” </a:t>
            </a:r>
            <a:r>
              <a:rPr b="1" lang="ar-AE" sz="2400" spc="-1" strike="noStrike">
                <a:solidFill>
                  <a:srgbClr val="820000"/>
                </a:solidFill>
                <a:latin typeface="Arial"/>
              </a:rPr>
              <a:t>إنما يؤخرهم ليوم تشخص فيه الأبصار</a:t>
            </a:r>
            <a:r>
              <a:rPr b="1" lang="ar-AE" sz="2400" spc="-1" strike="noStrike">
                <a:solidFill>
                  <a:srgbClr val="8200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</a:t>
            </a:r>
            <a:r>
              <a:rPr b="0" lang="ar-A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7:15:32Z</dcterms:created>
  <dc:creator>User</dc:creator>
  <dc:description/>
  <dc:language>en-US</dc:language>
  <cp:lastModifiedBy>saaad</cp:lastModifiedBy>
  <dcterms:modified xsi:type="dcterms:W3CDTF">2009-03-10T21:03:53Z</dcterms:modified>
  <cp:revision>51</cp:revision>
  <dc:subject/>
  <dc:title>Slide 1</dc:title>
</cp:coreProperties>
</file>