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lase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610-42F1-40B6-B8D7-889D8F90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99E-CB93-429F-924C-B06B7AD1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AA2-E3A0-480F-A7F4-A0622B89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139-1C51-415C-9D58-FC3A9E06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CB1F-6746-45FA-B929-9C7060E0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6B9-E14C-41F6-8E73-77381118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2E6-5512-4FDB-BAB6-7610CDA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FA71-4526-418B-9878-3F79B49A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44AE-9742-44CD-A85A-03E43877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1DBD-550D-4A79-8E4C-339F0C8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8138-C6F4-4835-A514-696FEEEE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728-59FE-4CB8-AF60-FB1C188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5258-322E-4157-BB40-E6DD2E5C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3228-D671-4571-94BD-B8FA69A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A182-81A6-4F08-B687-32EF2D87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1237-A1DB-420A-A560-0B57ABDF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58E8-0D04-45DB-B59D-61D61210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11C-7232-4EB4-8731-5BDD72B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B09-FAF9-4949-BE9F-5B03F06C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222-A26A-41E0-AB36-B3BF03E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484-5D6F-4943-AC41-8CF4CF1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E4A-4659-4645-8F51-894C502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275-7BB0-4DB2-80CE-7D2B190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C78-4042-4511-8B28-2E8EFA8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F049-C803-480B-B4D0-5AD70693F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5CAD-91AB-4B65-A486-3CE9ECC1DC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90840" y="2755800"/>
            <a:ext cx="4038840" cy="3683160"/>
          </a:xfrm>
          <a:custGeom>
            <a:avLst/>
            <a:gdLst/>
            <a:ahLst/>
            <a:rect l="l" t="t" r="r" b="b"/>
            <a:pathLst>
              <a:path w="2544" h="2320">
                <a:moveTo>
                  <a:pt x="2472" y="40"/>
                </a:moveTo>
                <a:cubicBezTo>
                  <a:pt x="2400" y="0"/>
                  <a:pt x="2120" y="24"/>
                  <a:pt x="1992" y="40"/>
                </a:cubicBezTo>
                <a:cubicBezTo>
                  <a:pt x="1864" y="56"/>
                  <a:pt x="1752" y="96"/>
                  <a:pt x="1704" y="136"/>
                </a:cubicBezTo>
                <a:cubicBezTo>
                  <a:pt x="1656" y="176"/>
                  <a:pt x="1744" y="208"/>
                  <a:pt x="1704" y="280"/>
                </a:cubicBezTo>
                <a:cubicBezTo>
                  <a:pt x="1664" y="352"/>
                  <a:pt x="1552" y="520"/>
                  <a:pt x="1464" y="568"/>
                </a:cubicBezTo>
                <a:cubicBezTo>
                  <a:pt x="1376" y="616"/>
                  <a:pt x="1272" y="576"/>
                  <a:pt x="1176" y="568"/>
                </a:cubicBezTo>
                <a:cubicBezTo>
                  <a:pt x="1080" y="560"/>
                  <a:pt x="984" y="528"/>
                  <a:pt x="888" y="520"/>
                </a:cubicBezTo>
                <a:cubicBezTo>
                  <a:pt x="792" y="512"/>
                  <a:pt x="680" y="512"/>
                  <a:pt x="600" y="520"/>
                </a:cubicBezTo>
                <a:cubicBezTo>
                  <a:pt x="520" y="528"/>
                  <a:pt x="464" y="520"/>
                  <a:pt x="408" y="568"/>
                </a:cubicBezTo>
                <a:cubicBezTo>
                  <a:pt x="352" y="616"/>
                  <a:pt x="312" y="728"/>
                  <a:pt x="264" y="808"/>
                </a:cubicBezTo>
                <a:cubicBezTo>
                  <a:pt x="216" y="888"/>
                  <a:pt x="160" y="968"/>
                  <a:pt x="120" y="1048"/>
                </a:cubicBezTo>
                <a:cubicBezTo>
                  <a:pt x="80" y="1128"/>
                  <a:pt x="0" y="1160"/>
                  <a:pt x="24" y="1288"/>
                </a:cubicBezTo>
                <a:cubicBezTo>
                  <a:pt x="48" y="1416"/>
                  <a:pt x="208" y="1696"/>
                  <a:pt x="264" y="1816"/>
                </a:cubicBezTo>
                <a:cubicBezTo>
                  <a:pt x="320" y="1936"/>
                  <a:pt x="280" y="1952"/>
                  <a:pt x="360" y="2008"/>
                </a:cubicBezTo>
                <a:cubicBezTo>
                  <a:pt x="440" y="2064"/>
                  <a:pt x="616" y="2104"/>
                  <a:pt x="744" y="2152"/>
                </a:cubicBezTo>
                <a:cubicBezTo>
                  <a:pt x="872" y="2200"/>
                  <a:pt x="1008" y="2272"/>
                  <a:pt x="1128" y="2296"/>
                </a:cubicBezTo>
                <a:cubicBezTo>
                  <a:pt x="1248" y="2320"/>
                  <a:pt x="1368" y="2296"/>
                  <a:pt x="1464" y="2296"/>
                </a:cubicBezTo>
                <a:cubicBezTo>
                  <a:pt x="1560" y="2296"/>
                  <a:pt x="1624" y="2304"/>
                  <a:pt x="1704" y="2296"/>
                </a:cubicBezTo>
                <a:cubicBezTo>
                  <a:pt x="1784" y="2288"/>
                  <a:pt x="1864" y="2280"/>
                  <a:pt x="1944" y="2248"/>
                </a:cubicBezTo>
                <a:cubicBezTo>
                  <a:pt x="2024" y="2216"/>
                  <a:pt x="2128" y="2152"/>
                  <a:pt x="2184" y="2104"/>
                </a:cubicBezTo>
                <a:cubicBezTo>
                  <a:pt x="2240" y="2056"/>
                  <a:pt x="2248" y="2024"/>
                  <a:pt x="2280" y="1960"/>
                </a:cubicBezTo>
                <a:cubicBezTo>
                  <a:pt x="2312" y="1896"/>
                  <a:pt x="2368" y="1816"/>
                  <a:pt x="2376" y="1720"/>
                </a:cubicBezTo>
                <a:cubicBezTo>
                  <a:pt x="2384" y="1624"/>
                  <a:pt x="2336" y="1496"/>
                  <a:pt x="2328" y="1384"/>
                </a:cubicBezTo>
                <a:cubicBezTo>
                  <a:pt x="2320" y="1272"/>
                  <a:pt x="2312" y="1168"/>
                  <a:pt x="2328" y="1048"/>
                </a:cubicBezTo>
                <a:cubicBezTo>
                  <a:pt x="2344" y="928"/>
                  <a:pt x="2408" y="792"/>
                  <a:pt x="2424" y="664"/>
                </a:cubicBezTo>
                <a:cubicBezTo>
                  <a:pt x="2440" y="536"/>
                  <a:pt x="2416" y="384"/>
                  <a:pt x="2424" y="280"/>
                </a:cubicBezTo>
                <a:cubicBezTo>
                  <a:pt x="2432" y="176"/>
                  <a:pt x="2544" y="80"/>
                  <a:pt x="2472" y="40"/>
                </a:cubicBezTo>
                <a:close/>
              </a:path>
            </a:pathLst>
          </a:custGeom>
          <a:solidFill>
            <a:srgbClr val="16b23b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08560" y="3797280"/>
            <a:ext cx="2044800" cy="2413080"/>
          </a:xfrm>
          <a:custGeom>
            <a:avLst/>
            <a:gdLst/>
            <a:ahLst/>
            <a:rect l="l" t="t" r="r" b="b"/>
            <a:pathLst>
              <a:path w="1288" h="1520">
                <a:moveTo>
                  <a:pt x="1264" y="8"/>
                </a:moveTo>
                <a:cubicBezTo>
                  <a:pt x="1240" y="16"/>
                  <a:pt x="1176" y="96"/>
                  <a:pt x="1120" y="104"/>
                </a:cubicBezTo>
                <a:cubicBezTo>
                  <a:pt x="1064" y="112"/>
                  <a:pt x="968" y="64"/>
                  <a:pt x="928" y="56"/>
                </a:cubicBezTo>
                <a:cubicBezTo>
                  <a:pt x="888" y="48"/>
                  <a:pt x="920" y="48"/>
                  <a:pt x="880" y="56"/>
                </a:cubicBezTo>
                <a:cubicBezTo>
                  <a:pt x="840" y="64"/>
                  <a:pt x="760" y="104"/>
                  <a:pt x="688" y="104"/>
                </a:cubicBezTo>
                <a:cubicBezTo>
                  <a:pt x="616" y="104"/>
                  <a:pt x="512" y="64"/>
                  <a:pt x="448" y="56"/>
                </a:cubicBezTo>
                <a:cubicBezTo>
                  <a:pt x="384" y="48"/>
                  <a:pt x="368" y="56"/>
                  <a:pt x="304" y="56"/>
                </a:cubicBezTo>
                <a:cubicBezTo>
                  <a:pt x="240" y="56"/>
                  <a:pt x="112" y="40"/>
                  <a:pt x="64" y="56"/>
                </a:cubicBezTo>
                <a:cubicBezTo>
                  <a:pt x="16" y="72"/>
                  <a:pt x="24" y="104"/>
                  <a:pt x="16" y="152"/>
                </a:cubicBezTo>
                <a:cubicBezTo>
                  <a:pt x="8" y="200"/>
                  <a:pt x="16" y="288"/>
                  <a:pt x="16" y="344"/>
                </a:cubicBezTo>
                <a:cubicBezTo>
                  <a:pt x="16" y="400"/>
                  <a:pt x="16" y="448"/>
                  <a:pt x="16" y="488"/>
                </a:cubicBezTo>
                <a:cubicBezTo>
                  <a:pt x="16" y="528"/>
                  <a:pt x="16" y="560"/>
                  <a:pt x="16" y="584"/>
                </a:cubicBezTo>
                <a:cubicBezTo>
                  <a:pt x="16" y="608"/>
                  <a:pt x="0" y="608"/>
                  <a:pt x="16" y="632"/>
                </a:cubicBezTo>
                <a:cubicBezTo>
                  <a:pt x="32" y="656"/>
                  <a:pt x="64" y="688"/>
                  <a:pt x="112" y="728"/>
                </a:cubicBezTo>
                <a:cubicBezTo>
                  <a:pt x="160" y="768"/>
                  <a:pt x="272" y="824"/>
                  <a:pt x="304" y="872"/>
                </a:cubicBezTo>
                <a:cubicBezTo>
                  <a:pt x="336" y="920"/>
                  <a:pt x="296" y="960"/>
                  <a:pt x="304" y="1016"/>
                </a:cubicBezTo>
                <a:cubicBezTo>
                  <a:pt x="312" y="1072"/>
                  <a:pt x="304" y="1136"/>
                  <a:pt x="352" y="1208"/>
                </a:cubicBezTo>
                <a:cubicBezTo>
                  <a:pt x="400" y="1280"/>
                  <a:pt x="536" y="1400"/>
                  <a:pt x="592" y="1448"/>
                </a:cubicBezTo>
                <a:cubicBezTo>
                  <a:pt x="648" y="1496"/>
                  <a:pt x="640" y="1488"/>
                  <a:pt x="688" y="1496"/>
                </a:cubicBezTo>
                <a:cubicBezTo>
                  <a:pt x="736" y="1504"/>
                  <a:pt x="832" y="1520"/>
                  <a:pt x="880" y="1496"/>
                </a:cubicBezTo>
                <a:cubicBezTo>
                  <a:pt x="928" y="1472"/>
                  <a:pt x="952" y="1416"/>
                  <a:pt x="976" y="1352"/>
                </a:cubicBezTo>
                <a:cubicBezTo>
                  <a:pt x="1000" y="1288"/>
                  <a:pt x="1008" y="1168"/>
                  <a:pt x="1024" y="1112"/>
                </a:cubicBezTo>
                <a:cubicBezTo>
                  <a:pt x="1040" y="1056"/>
                  <a:pt x="1064" y="1080"/>
                  <a:pt x="1072" y="1016"/>
                </a:cubicBezTo>
                <a:cubicBezTo>
                  <a:pt x="1080" y="952"/>
                  <a:pt x="1064" y="824"/>
                  <a:pt x="1072" y="728"/>
                </a:cubicBezTo>
                <a:cubicBezTo>
                  <a:pt x="1080" y="632"/>
                  <a:pt x="1104" y="520"/>
                  <a:pt x="1120" y="440"/>
                </a:cubicBezTo>
                <a:cubicBezTo>
                  <a:pt x="1136" y="360"/>
                  <a:pt x="1144" y="312"/>
                  <a:pt x="1168" y="248"/>
                </a:cubicBezTo>
                <a:cubicBezTo>
                  <a:pt x="1192" y="184"/>
                  <a:pt x="1248" y="96"/>
                  <a:pt x="1264" y="56"/>
                </a:cubicBezTo>
                <a:cubicBezTo>
                  <a:pt x="1280" y="16"/>
                  <a:pt x="1288" y="0"/>
                  <a:pt x="1264" y="8"/>
                </a:cubicBezTo>
                <a:close/>
              </a:path>
            </a:pathLst>
          </a:custGeom>
          <a:solidFill>
            <a:srgbClr val="f9e18b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7040" y="1689120"/>
            <a:ext cx="4317840" cy="2095560"/>
          </a:xfrm>
          <a:custGeom>
            <a:avLst/>
            <a:gdLst/>
            <a:ahLst/>
            <a:rect l="l" t="t" r="r" b="b"/>
            <a:pathLst>
              <a:path w="2720" h="1320">
                <a:moveTo>
                  <a:pt x="2680" y="88"/>
                </a:moveTo>
                <a:cubicBezTo>
                  <a:pt x="2720" y="0"/>
                  <a:pt x="2504" y="88"/>
                  <a:pt x="2152" y="88"/>
                </a:cubicBezTo>
                <a:cubicBezTo>
                  <a:pt x="1800" y="88"/>
                  <a:pt x="920" y="16"/>
                  <a:pt x="568" y="88"/>
                </a:cubicBezTo>
                <a:cubicBezTo>
                  <a:pt x="216" y="160"/>
                  <a:pt x="80" y="328"/>
                  <a:pt x="40" y="520"/>
                </a:cubicBezTo>
                <a:cubicBezTo>
                  <a:pt x="0" y="712"/>
                  <a:pt x="168" y="1160"/>
                  <a:pt x="328" y="1240"/>
                </a:cubicBezTo>
                <a:cubicBezTo>
                  <a:pt x="488" y="1320"/>
                  <a:pt x="784" y="1024"/>
                  <a:pt x="1000" y="1000"/>
                </a:cubicBezTo>
                <a:cubicBezTo>
                  <a:pt x="1216" y="976"/>
                  <a:pt x="1472" y="1160"/>
                  <a:pt x="1624" y="1096"/>
                </a:cubicBezTo>
                <a:cubicBezTo>
                  <a:pt x="1776" y="1032"/>
                  <a:pt x="1736" y="784"/>
                  <a:pt x="1912" y="616"/>
                </a:cubicBezTo>
                <a:cubicBezTo>
                  <a:pt x="2088" y="448"/>
                  <a:pt x="2640" y="176"/>
                  <a:pt x="2680" y="88"/>
                </a:cubicBezTo>
                <a:close/>
              </a:path>
            </a:pathLst>
          </a:custGeom>
          <a:solidFill>
            <a:srgbClr val="e2a2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971800" y="228600"/>
            <a:ext cx="5562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T Bold Heading"/>
              </a:rPr>
              <a:t>تصنيف الأشكال الرباع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362320"/>
            <a:ext cx="990720" cy="990360"/>
          </a:xfrm>
          <a:custGeom>
            <a:avLst/>
            <a:gdLst>
              <a:gd name="textAreaLeft" fmla="*/ 217800 w 990720"/>
              <a:gd name="textAreaRight" fmla="*/ 772920 w 990720"/>
              <a:gd name="textAreaTop" fmla="*/ 217800 h 990360"/>
              <a:gd name="textAreaBottom" fmla="*/ 77256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0db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962520"/>
            <a:ext cx="1295280" cy="838080"/>
          </a:xfrm>
          <a:prstGeom prst="rect">
            <a:avLst/>
          </a:prstGeom>
          <a:solidFill>
            <a:srgbClr val="eef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2971800"/>
            <a:ext cx="1066680" cy="838080"/>
          </a:xfrm>
          <a:prstGeom prst="parallelogram">
            <a:avLst>
              <a:gd name="adj" fmla="val 31819"/>
            </a:avLst>
          </a:prstGeom>
          <a:solidFill>
            <a:srgbClr val="e2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1981080"/>
            <a:ext cx="838440" cy="533520"/>
          </a:xfrm>
          <a:prstGeom prst="flowChartManualInput">
            <a:avLst/>
          </a:prstGeom>
          <a:solidFill>
            <a:srgbClr val="e2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52200">
            <a:off x="4800600" y="2514240"/>
            <a:ext cx="914400" cy="685800"/>
          </a:xfrm>
          <a:prstGeom prst="flowChartManualOperat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388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457200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2590920"/>
            <a:ext cx="1523880" cy="76176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58128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562720"/>
            <a:ext cx="1523880" cy="76176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شبه المنحر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وازي الأضل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ط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رب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724280"/>
            <a:ext cx="1536480" cy="1524240"/>
          </a:xfrm>
          <a:custGeom>
            <a:avLst/>
            <a:gdLst/>
            <a:ahLst/>
            <a:rect l="l" t="t" r="r" b="b"/>
            <a:pathLst>
              <a:path w="968" h="960">
                <a:moveTo>
                  <a:pt x="968" y="0"/>
                </a:moveTo>
                <a:cubicBezTo>
                  <a:pt x="968" y="0"/>
                  <a:pt x="968" y="32"/>
                  <a:pt x="920" y="48"/>
                </a:cubicBezTo>
                <a:cubicBezTo>
                  <a:pt x="872" y="64"/>
                  <a:pt x="752" y="88"/>
                  <a:pt x="680" y="96"/>
                </a:cubicBezTo>
                <a:cubicBezTo>
                  <a:pt x="608" y="104"/>
                  <a:pt x="568" y="88"/>
                  <a:pt x="488" y="96"/>
                </a:cubicBezTo>
                <a:cubicBezTo>
                  <a:pt x="408" y="104"/>
                  <a:pt x="264" y="112"/>
                  <a:pt x="200" y="144"/>
                </a:cubicBezTo>
                <a:cubicBezTo>
                  <a:pt x="136" y="176"/>
                  <a:pt x="136" y="232"/>
                  <a:pt x="104" y="288"/>
                </a:cubicBezTo>
                <a:cubicBezTo>
                  <a:pt x="72" y="344"/>
                  <a:pt x="16" y="408"/>
                  <a:pt x="8" y="480"/>
                </a:cubicBezTo>
                <a:cubicBezTo>
                  <a:pt x="0" y="552"/>
                  <a:pt x="32" y="648"/>
                  <a:pt x="56" y="720"/>
                </a:cubicBezTo>
                <a:cubicBezTo>
                  <a:pt x="80" y="792"/>
                  <a:pt x="96" y="872"/>
                  <a:pt x="152" y="912"/>
                </a:cubicBezTo>
                <a:cubicBezTo>
                  <a:pt x="208" y="952"/>
                  <a:pt x="328" y="960"/>
                  <a:pt x="392" y="960"/>
                </a:cubicBezTo>
                <a:cubicBezTo>
                  <a:pt x="456" y="960"/>
                  <a:pt x="496" y="928"/>
                  <a:pt x="536" y="912"/>
                </a:cubicBezTo>
                <a:cubicBezTo>
                  <a:pt x="576" y="896"/>
                  <a:pt x="608" y="880"/>
                  <a:pt x="632" y="864"/>
                </a:cubicBezTo>
                <a:cubicBezTo>
                  <a:pt x="656" y="848"/>
                  <a:pt x="664" y="856"/>
                  <a:pt x="680" y="816"/>
                </a:cubicBezTo>
                <a:cubicBezTo>
                  <a:pt x="696" y="776"/>
                  <a:pt x="720" y="664"/>
                  <a:pt x="728" y="624"/>
                </a:cubicBezTo>
                <a:cubicBezTo>
                  <a:pt x="736" y="584"/>
                  <a:pt x="728" y="608"/>
                  <a:pt x="728" y="576"/>
                </a:cubicBezTo>
                <a:cubicBezTo>
                  <a:pt x="728" y="544"/>
                  <a:pt x="712" y="480"/>
                  <a:pt x="728" y="432"/>
                </a:cubicBezTo>
                <a:cubicBezTo>
                  <a:pt x="744" y="384"/>
                  <a:pt x="800" y="336"/>
                  <a:pt x="824" y="288"/>
                </a:cubicBezTo>
                <a:cubicBezTo>
                  <a:pt x="848" y="240"/>
                  <a:pt x="856" y="184"/>
                  <a:pt x="872" y="144"/>
                </a:cubicBezTo>
                <a:cubicBezTo>
                  <a:pt x="888" y="104"/>
                  <a:pt x="904" y="72"/>
                  <a:pt x="920" y="48"/>
                </a:cubicBezTo>
                <a:cubicBezTo>
                  <a:pt x="936" y="24"/>
                  <a:pt x="968" y="0"/>
                  <a:pt x="968" y="0"/>
                </a:cubicBezTo>
                <a:close/>
              </a:path>
            </a:pathLst>
          </a:custGeom>
          <a:solidFill>
            <a:srgbClr val="f915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571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ع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581280"/>
            <a:ext cx="3784320" cy="2870280"/>
          </a:xfrm>
          <a:custGeom>
            <a:avLst/>
            <a:gdLst/>
            <a:ahLst/>
            <a:rect l="l" t="t" r="r" b="b"/>
            <a:pathLst>
              <a:path w="2384" h="1808">
                <a:moveTo>
                  <a:pt x="2376" y="1416"/>
                </a:moveTo>
                <a:cubicBezTo>
                  <a:pt x="2368" y="1408"/>
                  <a:pt x="2312" y="1408"/>
                  <a:pt x="2280" y="1368"/>
                </a:cubicBezTo>
                <a:cubicBezTo>
                  <a:pt x="2248" y="1328"/>
                  <a:pt x="2216" y="1224"/>
                  <a:pt x="2184" y="1176"/>
                </a:cubicBezTo>
                <a:cubicBezTo>
                  <a:pt x="2152" y="1128"/>
                  <a:pt x="2136" y="1104"/>
                  <a:pt x="2088" y="1080"/>
                </a:cubicBezTo>
                <a:cubicBezTo>
                  <a:pt x="2040" y="1056"/>
                  <a:pt x="1976" y="1048"/>
                  <a:pt x="1896" y="1032"/>
                </a:cubicBezTo>
                <a:cubicBezTo>
                  <a:pt x="1816" y="1016"/>
                  <a:pt x="1712" y="992"/>
                  <a:pt x="1608" y="984"/>
                </a:cubicBezTo>
                <a:cubicBezTo>
                  <a:pt x="1504" y="976"/>
                  <a:pt x="1360" y="992"/>
                  <a:pt x="1272" y="984"/>
                </a:cubicBezTo>
                <a:cubicBezTo>
                  <a:pt x="1184" y="976"/>
                  <a:pt x="1120" y="976"/>
                  <a:pt x="1080" y="936"/>
                </a:cubicBezTo>
                <a:cubicBezTo>
                  <a:pt x="1040" y="896"/>
                  <a:pt x="1048" y="800"/>
                  <a:pt x="1032" y="744"/>
                </a:cubicBezTo>
                <a:cubicBezTo>
                  <a:pt x="1016" y="688"/>
                  <a:pt x="1024" y="688"/>
                  <a:pt x="984" y="600"/>
                </a:cubicBezTo>
                <a:cubicBezTo>
                  <a:pt x="944" y="512"/>
                  <a:pt x="832" y="288"/>
                  <a:pt x="792" y="216"/>
                </a:cubicBezTo>
                <a:cubicBezTo>
                  <a:pt x="752" y="144"/>
                  <a:pt x="808" y="200"/>
                  <a:pt x="744" y="168"/>
                </a:cubicBezTo>
                <a:cubicBezTo>
                  <a:pt x="680" y="136"/>
                  <a:pt x="480" y="48"/>
                  <a:pt x="408" y="24"/>
                </a:cubicBezTo>
                <a:cubicBezTo>
                  <a:pt x="336" y="0"/>
                  <a:pt x="352" y="0"/>
                  <a:pt x="312" y="24"/>
                </a:cubicBezTo>
                <a:cubicBezTo>
                  <a:pt x="272" y="48"/>
                  <a:pt x="216" y="104"/>
                  <a:pt x="168" y="168"/>
                </a:cubicBezTo>
                <a:cubicBezTo>
                  <a:pt x="120" y="232"/>
                  <a:pt x="48" y="320"/>
                  <a:pt x="24" y="408"/>
                </a:cubicBezTo>
                <a:cubicBezTo>
                  <a:pt x="0" y="496"/>
                  <a:pt x="16" y="616"/>
                  <a:pt x="24" y="696"/>
                </a:cubicBezTo>
                <a:cubicBezTo>
                  <a:pt x="32" y="776"/>
                  <a:pt x="40" y="808"/>
                  <a:pt x="72" y="888"/>
                </a:cubicBezTo>
                <a:cubicBezTo>
                  <a:pt x="104" y="968"/>
                  <a:pt x="128" y="1064"/>
                  <a:pt x="216" y="1176"/>
                </a:cubicBezTo>
                <a:cubicBezTo>
                  <a:pt x="304" y="1288"/>
                  <a:pt x="472" y="1464"/>
                  <a:pt x="600" y="1560"/>
                </a:cubicBezTo>
                <a:cubicBezTo>
                  <a:pt x="728" y="1656"/>
                  <a:pt x="864" y="1712"/>
                  <a:pt x="984" y="1752"/>
                </a:cubicBezTo>
                <a:cubicBezTo>
                  <a:pt x="1104" y="1792"/>
                  <a:pt x="1224" y="1792"/>
                  <a:pt x="1320" y="1800"/>
                </a:cubicBezTo>
                <a:cubicBezTo>
                  <a:pt x="1416" y="1808"/>
                  <a:pt x="1464" y="1808"/>
                  <a:pt x="1560" y="1800"/>
                </a:cubicBezTo>
                <a:cubicBezTo>
                  <a:pt x="1656" y="1792"/>
                  <a:pt x="1808" y="1784"/>
                  <a:pt x="1896" y="1752"/>
                </a:cubicBezTo>
                <a:cubicBezTo>
                  <a:pt x="1984" y="1720"/>
                  <a:pt x="2024" y="1648"/>
                  <a:pt x="2088" y="1608"/>
                </a:cubicBezTo>
                <a:cubicBezTo>
                  <a:pt x="2152" y="1568"/>
                  <a:pt x="2240" y="1544"/>
                  <a:pt x="2280" y="1512"/>
                </a:cubicBezTo>
                <a:cubicBezTo>
                  <a:pt x="2320" y="1480"/>
                  <a:pt x="2312" y="1432"/>
                  <a:pt x="2328" y="1416"/>
                </a:cubicBezTo>
                <a:cubicBezTo>
                  <a:pt x="2344" y="1400"/>
                  <a:pt x="2384" y="1424"/>
                  <a:pt x="2376" y="1416"/>
                </a:cubicBezTo>
                <a:close/>
              </a:path>
            </a:pathLst>
          </a:custGeom>
          <a:solidFill>
            <a:srgbClr val="db116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657600"/>
            <a:ext cx="1066680" cy="1600200"/>
          </a:xfrm>
          <a:prstGeom prst="diamond">
            <a:avLst/>
          </a:prstGeom>
          <a:solidFill>
            <a:srgbClr val="3fd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5410080"/>
            <a:ext cx="1143000" cy="609840"/>
          </a:xfrm>
          <a:prstGeom prst="flowChartDecis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5257800"/>
            <a:ext cx="685800" cy="6858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3800" y="304920"/>
            <a:ext cx="1295280" cy="5814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مدخ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78132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04920"/>
            <a:ext cx="1981440" cy="703800"/>
          </a:xfrm>
          <a:prstGeom prst="rect">
            <a:avLst/>
          </a:prstGeom>
          <a:gradFill rotWithShape="0">
            <a:gsLst>
              <a:gs pos="0">
                <a:srgbClr val="f2e092"/>
              </a:gs>
              <a:gs pos="100000">
                <a:srgbClr val="decd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فكري بشكل رب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614600"/>
            <a:ext cx="1981080" cy="642600"/>
          </a:xfrm>
          <a:prstGeom prst="rect">
            <a:avLst/>
          </a:prstGeom>
          <a:solidFill>
            <a:srgbClr val="3fd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تناظر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362320"/>
            <a:ext cx="1066680" cy="1191240"/>
          </a:xfrm>
          <a:prstGeom prst="rect">
            <a:avLst/>
          </a:prstGeom>
          <a:solidFill>
            <a:srgbClr val="e2a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باعي بدون محور تناظ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2514600"/>
            <a:ext cx="2743200" cy="368280"/>
          </a:xfrm>
          <a:prstGeom prst="rect">
            <a:avLst/>
          </a:prstGeom>
          <a:solidFill>
            <a:srgbClr val="f9e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يمر في 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143000" cy="1191240"/>
          </a:xfrm>
          <a:prstGeom prst="rect">
            <a:avLst/>
          </a:prstGeom>
          <a:solidFill>
            <a:srgbClr val="92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آخر لايمر في ال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1828800" cy="642600"/>
          </a:xfrm>
          <a:prstGeom prst="rect">
            <a:avLst/>
          </a:prstGeom>
          <a:solidFill>
            <a:srgbClr val="e2a2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آخر يمر في ال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648320"/>
            <a:ext cx="1752480" cy="642600"/>
          </a:xfrm>
          <a:prstGeom prst="rect">
            <a:avLst/>
          </a:prstGeom>
          <a:solidFill>
            <a:srgbClr val="b0d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ان آخر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9810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8195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6560" y="29718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434340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267080"/>
            <a:ext cx="10670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334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638680"/>
            <a:ext cx="914400" cy="990720"/>
          </a:xfrm>
          <a:prstGeom prst="flowChartManualOperat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5638680"/>
            <a:ext cx="609480" cy="9907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5791320"/>
            <a:ext cx="914400" cy="83808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791320"/>
            <a:ext cx="838080" cy="76176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1409200">
            <a:off x="6094080" y="5705640"/>
            <a:ext cx="915840" cy="461880"/>
          </a:xfrm>
          <a:prstGeom prst="flowChartExtra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 rot="21409800">
            <a:off x="6093000" y="6163560"/>
            <a:ext cx="915840" cy="463680"/>
          </a:xfrm>
          <a:prstGeom prst="flowChartExtra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5638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5638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5791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962520" y="5791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5791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3352680"/>
            <a:ext cx="38088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920" y="6629400"/>
            <a:ext cx="6248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990360"/>
            <a:ext cx="75960" cy="563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8088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57200"/>
            <a:ext cx="1066680" cy="5205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udir MT"/>
              </a:rPr>
              <a:t>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96080" y="304920"/>
            <a:ext cx="1143000" cy="459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خ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781320" y="533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28600"/>
            <a:ext cx="1143000" cy="916920"/>
          </a:xfrm>
          <a:prstGeom prst="rect">
            <a:avLst/>
          </a:prstGeom>
          <a:solidFill>
            <a:srgbClr val="f91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كري بشكل 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38280"/>
            <a:ext cx="2895840" cy="642600"/>
          </a:xfrm>
          <a:prstGeom prst="rect">
            <a:avLst/>
          </a:prstGeom>
          <a:solidFill>
            <a:srgbClr val="eef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قطراه متقاطعان في منتصفهما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04920"/>
            <a:ext cx="1676520" cy="1191240"/>
          </a:xfrm>
          <a:prstGeom prst="rect">
            <a:avLst/>
          </a:prstGeom>
          <a:solidFill>
            <a:srgbClr val="3da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هناك رباعي آخر يتقاطع قطراه في منتصفهما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920"/>
            <a:ext cx="761760" cy="7340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ها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666880"/>
            <a:ext cx="1371600" cy="1059840"/>
          </a:xfrm>
          <a:prstGeom prst="rect">
            <a:avLst/>
          </a:prstGeom>
          <a:solidFill>
            <a:srgbClr val="3da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شكل لي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666880"/>
            <a:ext cx="2286000" cy="6426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عامد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3048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672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809880"/>
            <a:ext cx="1904760" cy="642600"/>
          </a:xfrm>
          <a:prstGeom prst="rect">
            <a:avLst/>
          </a:prstGeom>
          <a:solidFill>
            <a:srgbClr val="96b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طابق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3809880"/>
            <a:ext cx="1905120" cy="642600"/>
          </a:xfrm>
          <a:prstGeom prst="rect">
            <a:avLst/>
          </a:prstGeom>
          <a:solidFill>
            <a:srgbClr val="96b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طابق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3505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71800" y="60199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971800" y="23623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1800" y="12952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480" y="53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419112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4876920"/>
            <a:ext cx="1143000" cy="990360"/>
          </a:xfrm>
          <a:prstGeom prst="parallelogram">
            <a:avLst>
              <a:gd name="adj" fmla="val 28853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4724280"/>
            <a:ext cx="685800" cy="12193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4724280"/>
            <a:ext cx="1143000" cy="106704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952880"/>
            <a:ext cx="914400" cy="7621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086240" y="48769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91520" y="4876920"/>
            <a:ext cx="533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90960" y="47242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47242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7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9528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676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1384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8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9:09:04Z</dcterms:created>
  <dc:creator>Administrator</dc:creator>
  <dc:description/>
  <dc:language>en-US</dc:language>
  <cp:lastModifiedBy>Administrator</cp:lastModifiedBy>
  <dcterms:modified xsi:type="dcterms:W3CDTF">2003-03-28T02:15:47Z</dcterms:modified>
  <cp:revision>4</cp:revision>
  <dc:subject/>
  <dc:title>الشريحة 1</dc:title>
</cp:coreProperties>
</file>